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83.png" ContentType="image/png"/>
  <Override PartName="/ppt/media/image34.jpeg" ContentType="image/jpeg"/>
  <Override PartName="/ppt/media/image58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8.wmf" ContentType="image/x-wmf"/>
  <Override PartName="/ppt/media/image80.wmf" ContentType="image/x-wmf"/>
  <Override PartName="/ppt/media/image15.wmf" ContentType="image/x-wmf"/>
  <Override PartName="/ppt/media/image41.jpeg" ContentType="image/jpeg"/>
  <Override PartName="/ppt/media/image23.wmf" ContentType="image/x-wmf"/>
  <Override PartName="/ppt/media/image1.jpeg" ContentType="image/jpeg"/>
  <Override PartName="/ppt/media/image50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12F1-F818-4454-B330-2A81166C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BD9E-BF72-46B0-A936-336C4A2A78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A3850B-43E5-4BFE-91D9-C6B600BB14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D6E6E8-E507-4371-B2E0-B80EADCD6B0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6F053-76E8-4428-A024-C6580F81F2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3A174-6EE3-4AF0-99D0-0AAB6C2314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4177F-2CD4-4D8B-8E63-875D90A164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341275-8543-4F0F-9B6E-2583162A84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53B6F-BBF1-474C-9499-5A4825539C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06108-09A4-4422-88F3-1B31A5FAD9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F66823-32D0-49A0-B86A-B6ADB36A6B6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97F34-3B56-4F7F-9291-32896F864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ED09-9612-4AB1-8546-9F4A36355C8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1194B-CCCD-46DB-A44D-88F5B5AF69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5DE8C-8D5B-4161-84DB-4494536C5C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58266-8C7E-4F0C-91B8-91EEE48C660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0891A-557B-45C4-B045-AA0F901EC1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3E947-3CAF-471C-8EFC-2ECA52DF01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DC38F-F7E9-4908-ADD6-D3C778A331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155A9-E76F-4AB7-8DEB-CCA75E8DC0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54254-3C49-4937-A2C5-23BBC7F261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A14C9-0FB3-40BB-9F45-5C7B3F09D3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6092C-8D48-4211-9421-A8F0F6326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F2B9-02A8-44E9-ADFF-6E7BC7E719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037C1-DB49-41E0-81E1-801C7F14A1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41BA5-49F6-4657-B217-97F31B7CAA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7CA2E-9AF2-4220-8EDB-78D13FE6A7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153D-54A0-42DB-936E-67D91BB285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95AB-7922-45A8-BBAD-5AAC69652C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3C13-ABD7-490B-96F1-ABDBADF484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2B52-471C-4440-8C0F-28435E526E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58F8-2393-42EC-80F4-5E10672797E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865C-DA72-4ED4-9E92-6BB8BF58FD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4907-5E68-4B2A-87AE-2709C5ACB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8368-4FE9-48DA-9EC7-9B0C2CF2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86F9-135A-4563-91F1-D4FCB00AD6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B394-BF34-4416-852C-C3DBAE0594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6191-E9D8-48CA-A0EE-2500F6202E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88E83B-555A-4CC1-9EB9-1A3F19FDFA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C7531D-783D-4C8C-899E-DE723B916F4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5D560-7A13-41A0-9F0C-6368384589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3F38DA-0CF0-4990-9C27-CE709313C0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73A6D-0BC0-4DC4-84DE-DCE09558C0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D532C1-0D1D-4408-AF98-09B979B80A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B56D80-EA7B-4586-9437-8C952A2B71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B711-96C0-438D-AE05-10878860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617A08-5E55-46D2-BDCF-B4D9DF06AB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67091-E73E-4C9A-AAFF-19AA11C4D4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DFFE59-5DC1-417D-99A9-3B7F0F8B66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68861-DF21-49A9-AAFC-744BCE96B6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3A09F-C1C5-4D28-B120-EB41C24239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1B0AA-3144-464B-9153-6FB8A544C3A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EFDD2-C387-4C68-9DED-1D528EC8B7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F8537-DC15-4F8E-8379-1F533AD49F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8AA7D-4677-4F9F-A78C-B2C61C5E60D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B0CB7-2F31-4CD4-947A-87AEB6E45B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4AB8-AC82-41BA-BA17-ED51A7B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042F7-BB84-40A4-96D6-4CE5FFC11F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3FA71-05A2-413D-9FAC-9459E2D569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FAD6D-8B6B-4795-A580-E83DB178FE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2E352-486F-440B-B913-0027D568A8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3290A-E0C4-44D8-ABE5-A64AD3B647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63165-AD16-4F4C-B744-9867B28074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3CCB2-B510-4019-95DE-4B1FE647E68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4A84-2DE5-4325-A556-988FE51DBE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027E-339D-4833-A6E4-C177834B36C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2D58-EDF6-41FD-959D-D829B5377B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4E13-E64F-47B2-93EA-1162AE0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740F-8291-401D-A6D5-FAA40442D62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7E33-CE85-44A8-853A-098FC927126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E03E-5D52-47BD-8FFD-E7C14D27BA2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3DC2-6DC4-4F73-9287-E9A5471BED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1DB53-9E7B-4567-B25F-54E8FCA09F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C859B-B29F-4358-BEE4-110DDEEBDB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0E7D-A028-4E3E-812E-A36F4B5BBCB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0A5A6-9601-4D17-A36A-C85C96A0B1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4C11-F412-4B13-B4C0-968FDDD24DD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3FE19-88F6-445A-A5FC-75054922AC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21742-A2A7-476F-A08E-6145A3AE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76116F-7A02-4612-B171-F88E4AB856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9A30A-42B0-4F97-BC7E-8C54E14CCE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73051-F840-4B46-A9D8-E93BCDD9C59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AFFFB-5808-4A0A-8361-7DA4D70E6E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E8180C-64A6-46A1-9F66-8D923BF2A3E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B89CF9-5976-4D10-BFF7-DC358D6A2F6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DA1C1-E562-4A57-AD7E-88496204C6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90D9B6-9DE6-4D52-84AE-97028980B78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A5B146-F609-4B1E-B01A-8EE703FFDFA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C0E09-3E17-449A-B97D-DAC24131D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5ADB1-E579-490E-B749-0C17375E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0A8FF-2F72-4E45-B3A8-67EDD554AA7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0DA91-9B30-482F-B491-16EBB46E656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5AD72-1101-422B-9C15-9082B8383BD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68829-C166-43EC-9C72-914A5F97E73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21F52-0771-43E2-9709-38B72808275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E2879E-5095-4347-8CD6-7AD31D2EDD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7EB78-9DFA-4097-BED7-E6C34CD313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298552-ABD9-4D66-AA0C-F793517E32E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93803-45E2-4B4E-8B16-C237A8EDF2A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64208-4513-41BF-9804-D93647180A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72BFB-05F9-4096-BF12-53D130E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503FD-9787-4B43-922E-F6688A84CD9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BAA13A-F550-44E3-8D1F-053FC75E960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0E4E6-7287-4B8C-A354-56978BB0560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FE53A-1410-4DB6-AE18-ADBB5D59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D0917-6495-4EBA-B4F4-61B30F75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7723C-382A-4498-B8CF-2D882CD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C991B-C1B6-4446-9F6B-ECCAE7C9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E17A6-99CA-4B5D-8431-ED961830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13F66-C3D4-46DE-8E0A-176C5CB7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4CE42-02A9-4B01-966A-6CEBE3D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5F50-1430-4ACF-98DF-18B720FA7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0D5D-EEC8-4061-B8FF-35D84C4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81ADE-F9FC-44DE-B36E-DCED580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C58C6-7A26-496D-B187-0C0B19C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1DA8D-AF9C-4E17-8656-21CCF406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8E3B6-1B06-4559-9841-4B69200E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CEBAF-8A45-4DAF-9487-59B76673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57C3E-5619-4B6E-BCBB-6F288D9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6C1EE0-9121-4A3F-923C-F6CF2EC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F32EB3-95CC-4C1A-9F15-381FB366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B51FA0-DC0B-4A70-B10C-54A2E5F7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0646BD-F024-4869-B32D-B85A37A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61D4-D12B-4C1D-ABDD-E9FB72D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DE902D-2CF1-4915-8613-07CC095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345EA4-97A4-4C16-9C61-3AF8555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21137A-6248-4C4B-BE93-95E30F1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B7669B-7BE6-4547-A189-041003A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B5C936-AC7E-4FCD-A097-2D1CDB10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49EAA-D4CF-4D9B-A5F4-181A3FD8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A7C6CF-B6FD-42CA-B395-501FD830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B3DE73-C246-4C33-B84B-0AFBACDE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DBF932-1ECF-43A8-8032-4BF74CD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BE6D3-7C0E-4473-B354-42BAB4E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8A43-FB76-4F59-BFA4-EC3FBF6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5C2B0-A15D-40C1-93C8-6B9FDDB1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893D0F-CEC0-4194-9DC3-EBB4B8C0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EE53F5-1D60-45B7-8595-F1F55712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D17E62-BA0D-4CBA-8F67-6C741FE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EB484-2746-4C0F-850B-53192C7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0F0A93-973A-4BA5-82BD-F258742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3607C5-1049-495F-ADE0-28E80A48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A29796-3D75-4DBB-80F5-8EB3603F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1F4DBD-F24B-4601-838D-4B1F7D4C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EE3E91-D416-4DE1-8CC4-E14C1382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9CB5-4277-4387-A90D-E54F9519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43E490-01FA-456C-A866-2DA0062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D45CEC-B583-45A5-8F1E-59E1DC4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A840F-126B-4F1E-858B-9DE2ED3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86B857-4B66-464B-BEFC-C65377AC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FD2B70-A9B9-427A-9291-6F48D9A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2A2793-D03C-48AB-BB0C-4F8C478D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117E9A-67F2-4C84-A661-69FE273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0AC4A6-86EB-4067-80EC-E2C7A21D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99FECE-C99D-4593-AD64-382BBD68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D4FBD4-F5F2-4C43-8CBB-4765B98B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5556A-BA3E-49AD-A539-0A8204C6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2A2F90-D5B5-46F4-B227-6A59AD8D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46691B-AD3E-4013-8D60-2ACA0C6F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740580-3292-48C2-8639-2089972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FC0B3B-A2D0-47C6-B182-051E7ADE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9E4307-7805-4863-9792-C9B7516A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EA128F-D772-4BC9-B3FE-CF4CDB2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CDC202-38A4-40F0-B2E4-0CF1FCD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8D6363-60AE-4D97-9B4C-B0DEF57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62DDE-8ACB-462C-88B1-8FBB9A8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EBA07-BFFD-4785-ABB8-25930A5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5703A-6448-4ADC-B0EB-26E40AC2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ED959-66FD-4B7F-AAF9-5CE89B8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F5957-7EC3-4B09-AF41-C94C2188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1ABA23-114E-46E8-B07D-3774D287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1FA868-8230-4141-9050-53609F6D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5FC7C2-1A51-4F7A-926B-632EE6A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450A42-1052-495F-B05C-4419F37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A65D82-D371-440D-BBBC-403D0A91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EB9FC8-C3E5-4170-AF76-F7D413C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E64766-CC86-4D4B-A034-C3C427C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192B75-4D4A-44BE-9CDB-9048A92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CFF4C-0A9F-4345-AEF0-9BF3460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A67E3B-1000-47D4-936B-9BAA562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F36F9D-95F1-4D9B-910B-C9A34C5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38A04F-38AC-46BF-8506-9C08D920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BB3480-96DD-4DD4-B46A-3088D99C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075F58-D3A4-470F-93CF-E417E7E6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71C6A1-A824-4F33-A3CE-FE658305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88EE2B-75BE-4956-B9E1-4A9F9658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C832F2-9E8B-453E-BDB5-73AA0658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D39BE8-D202-495E-A1C2-AB802759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E975BC-088A-41F8-BD58-6C50D6A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F2E29-41D9-413B-B44C-E8F5E90D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E85C01-B059-465B-8323-0D41F06F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355BA5-2332-4D0E-932F-4669B1C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40DD33-D0B3-4B20-8C20-3512D49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764C84-8581-4B4F-8276-555BA63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E34414-34E5-4E4B-A7F7-F3136D1F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01633A-32D0-4F28-BFB1-7101D482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BE9FDE-FC1F-4A78-AD39-6BAFCF2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06D9EF-C99A-4078-B074-8B6E3CC9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B94717-B87A-4708-8E75-A748C824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A4E188-92C3-4D4F-B07D-B4D29E3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74E8F-6704-4869-823E-F8567804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27449B-2E50-4065-8CFC-D1BBA20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98608C-D05D-4A46-9B95-9E65F3B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4264F2-25EB-4AB4-9D32-735047D0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E77646-629D-41BD-AFCF-6895437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0868E5-FB41-4F24-9F4C-2223E38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D05783-657A-427D-9BE4-9DDB9AA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DBD2D7-0B65-4F3B-B4E9-5A98871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5BE36D-485F-4355-810D-7EA7A551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E57AF0-9E05-4125-AE25-F8539617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033E93-68E6-48EE-B341-F13F950B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E6B71-20F7-4F7E-A7B9-0C3E058B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F15ADA-614E-46A5-A532-E70EE79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867346-3907-4EDC-88BF-9A08B7D6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F9431E-676C-4993-9D10-B7CB480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DAEB63-8C6A-4F3C-AF4E-BCD46024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2F5E00-3F46-401C-9063-80E93ED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D8BA20-982B-4AC0-B520-D5C55C4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CB5E89-A206-459B-AB01-8773122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B4A644-2EF4-43E6-A2D7-72472D9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94E5FE-2D96-4934-8A6B-46F53B5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039D55-C0EB-42FC-9025-9FEB5A0A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20BC-8605-40D7-B97E-9DAFB06F8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2F197-AEE0-47A7-9F1B-1DD396D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D75F3F-B088-4701-A841-D37759BD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F9CFF9-65CF-4E4A-91D2-EAC6A598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62542A-BDA7-485B-9E9A-BD1384C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F84F8D-E6DC-40F7-8062-ADBB41F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1C87C7-EA2E-4EED-BB52-AC9AFCB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70BE23-98DD-4D74-AF2B-B14E42F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8AF6FE-18E2-42B4-8585-BB3C2BC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2D5FA2-8B92-4A92-B15F-F5F19E8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710F00-4209-498F-9D51-7A794CCE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2E1DB4-1EC6-4E78-9CE3-74FFA5E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B606E-6F71-4904-BA69-20AA825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8A01CF-6DD5-49F8-B467-8345BFB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538CFC-54D7-4248-BCE7-AA0B6717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1CB643-A813-4AC3-B314-5941641A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79B7BB-F8DA-43BC-8721-96353B81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B2443B-0927-4F8F-BBE6-765A01A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755C82-FE9A-4C70-B2D5-3705369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791706-93EE-4AF3-888C-5B2FFAAC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DBAB20-08AC-4959-95EC-7BE445A9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CDE9C4-344C-4C6C-8F89-9250B58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1CE5C3-D8AA-4F9D-8241-2EFB73B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A1F98-8025-4C71-B7FF-D871CD8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69C263-D816-417A-B76F-2C916C3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F6106A-9CE2-4DF2-8532-10E32C4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D22962-6DB7-4FE1-8F15-3E2C7505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50E43E-F5E0-43CA-8BE8-81FA904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F31A72-AC79-414D-AA6B-D244056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E0A7FB-9418-4544-A2A6-D8B65C94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728F53-9EAE-4FBA-9674-F65BA61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4E2C32-670D-495D-94BC-366C843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4B918C-CFDA-4A98-AAF1-9231AAB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1EC68C-DC1A-4708-9B60-4A684E4B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CE6C8-05D4-406E-B86C-AE8D29F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8AC3C1-6DFA-40B9-9494-AE31202D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E48B6C-A66A-429A-B302-FE04B3C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23AAA3-4A31-4795-BB83-202564F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839575-2081-4847-A2C6-EB691B6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ACB5FA-3BDA-46EB-A24C-E41B282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0F3079-C8C3-4FCA-AA4F-082F9B5F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DB65D8-D89C-49AE-8214-1A506C72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36B41E-60C9-40B3-B0D0-B9D2B632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05FB21-EAC1-428D-893D-BDAD45C8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7AFF694-F9D0-4129-A6B8-A145E08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A53B3-1851-4FF5-91C7-3812010E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0CB884-6F73-4BFD-8DEC-64E911E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85C6FA-D5B2-4BF8-8F68-AADB4106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A1E33B-2973-4D0C-98E2-CF06AA86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852271-4B82-46EB-B2EF-FBA93D7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A09DAD-AA9B-44D8-BA87-0DCBCDF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070017-79DE-4E00-93C2-42110E2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DED3E7-D17A-4F5B-9D15-1983C77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BB8840-95CD-4823-8FC5-5C56E260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26728C-3275-4233-A43F-EB90DC52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D0D86D-7F80-4056-82AE-CBE5544F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C9339-BA5F-4B0F-8243-C64EE1B5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772BE9-1D2F-4708-90B8-B1C3210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3C6BD3-59EA-4382-A14A-0454C797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A51513-E98C-402C-9C73-587280A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5D9A17-6067-4FCA-A9AB-B3B3AE1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D67B2F-EC2C-4BCA-B8D2-E32C8C8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631597-95BB-4874-89C6-70603F4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30693A4-855E-4F1B-A838-83FC029A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934AAF-4FC5-475C-B266-FC1B5FD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2C1455-9F39-4507-9473-E442C35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A9E42CD-118E-4828-A41F-9EC8DA7B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8FDAE-4350-47B9-9328-80301948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D38470-7FC2-4AE5-AD6A-C9DF2B3F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F46578-B545-4D82-B8F4-80752562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41CB73-9DB5-46C9-83DE-1E0406BA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88DCBD-7D5B-432F-98CD-FD628EC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34F1FC-1C81-49CF-89FD-4DCC2C0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CD2EA6-AEC0-4451-A038-788EA3CF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A501AC-6FCD-4C37-B713-01B1C99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80927C-F2B6-4767-B640-F3C7065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58A8FE-607E-4F40-B998-EBC3B2E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D4D4F2-D234-478A-8241-0342CE9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0AAC-833E-4583-8118-B91B74290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777347-2838-430D-9F91-1D107CDB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7A7E82-B29D-4F01-90EF-2C780C8B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47F655-CE7B-4FB0-8684-407E7057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ACE8FA-0248-46C2-9645-0A601286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51D938-17C6-41ED-856D-1D770166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D9987D-D4DA-471D-850D-A46E5AA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E03C7F-68E4-4DB0-AC9E-ED5950E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D83209-C3A6-45FB-A519-4AC3CDCF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C32047-FFB7-4BC3-ACC9-3ED9B00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1E8A1F-9BF8-4042-83B9-D08CCBB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4537-42DA-4FF1-B8E5-33EFDC2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7F80BC-4BC2-4A3F-B265-CA02A8E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A5ADD95-4A7B-4325-8753-B0C611A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702532-6C4A-4D93-9D97-D422C8E4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500129-51DA-48C5-8B50-3AFE31F0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C60F5E-594A-45E7-AF2C-207DAC9A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E27BE0-0FE4-473B-8BB6-CDD303AB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CDD5F4-C459-4549-850F-2F6DBA9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F1ED20-D0EA-442D-AD54-C0A5C46B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E316AB-E751-4BC4-880D-722AC96B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50BEC2-3003-4133-9912-F723639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87B5-9777-49EB-9A9F-C169C38F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9DBA0C-BDB1-4F62-BA6B-AF282D18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BC2CC0-9FF6-4EF3-880D-4DAED02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505BF7-39B6-43A8-AA55-3DA6E1B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AEB6D1-77D0-4846-8D46-6985DF9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23E933-5362-41F2-92EC-9C5D5616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A92A9A-FD91-4DE1-B20E-8851CC05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59E10F-6008-4768-93FE-9CC2B672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8296B77-DA9D-4C52-9B0A-9DD400A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17D965B-BFA5-4D88-894B-CF7D116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070C5D8-C087-4226-93A6-1E55FB3A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BC26-DE6F-4043-BE60-0F7BE0CCED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79DF-89F8-41B0-B1BC-8CB43109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146D4D-E76E-4D14-9D13-0BEA694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708C224-0340-41CA-A957-A5135E89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272ECC-4F72-4994-A82F-E75F0E8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D625B7-2855-4BFF-A664-C5B389B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C1B00E-0E15-4F8F-96DF-8BB49C8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08EC90-8EDD-4DA2-9D0F-F1B806E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D6A3C8-2406-4DE4-8740-2F85882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6460C2E-F364-44C8-898B-F48B3915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7DEA19-F646-4964-A636-7D0A2997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F922E87-01FA-405E-BDD3-395682FD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4181-5A64-4C48-B536-29C7A086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3F8410-4261-4198-B3E1-77D8B3F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B21E40-AD92-41BB-8DFA-7FD8CB11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5A2B13-346D-438A-BFB6-B9DE8FBE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3B352B-C368-49C2-8B47-C7D646F3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84C8B5-B3A6-48BD-B0A8-FA8C810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7DAA8FA-5A48-4087-9568-5841010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2B7D30-2397-4526-A03F-E430E1C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F28F70-3525-4F31-B22F-B0419BA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30D4AB-75D4-47BC-9A59-094CC955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F99F97-A896-47C3-814B-901320D0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8414-0E7C-4D99-9DB6-DCEA160D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1F5189-58C7-44DF-95B2-773BC71D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5245DF-4096-4AE2-A389-88F356D1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1688946-4618-411C-8A89-B205DB8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422FBA2-338F-4900-BF33-3246C63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BA584BC-64DC-43DB-ABE6-849EF3A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BEB3507-88B4-4C44-8901-AC3558A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6B2FC6-C272-4E7C-888E-BFBCDA9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773F84B-AC5D-488E-B1F7-B5EF1EC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2DACE7-7EFB-4821-91EB-ED95D93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E1F3B60-68D1-49CF-9AC0-7B653D2A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3562-23C4-4D32-9DA5-647E33D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5B14C5-C582-4B53-BBB7-EA1D944B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5F00AF-122A-40B0-BA4C-C36FD3B7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89377D-59EA-4EEE-AB29-D106D64F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308452-3503-4E55-B3EA-6B68F87F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908DD4-32D4-4005-909E-1CE4D6D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E024B8-7BDD-428A-A3D7-7D5F272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38F714-9675-4537-AA98-DD4434AA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87BEE0-5C5A-4A64-92B9-A46730C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2F9828C-38D4-4C35-A714-5B22C2D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1DE88B-8289-4AAB-A046-D4A3A31F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D31B-460F-48FA-BFE2-93562C78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39C1B5-6F2A-4EEB-8CD5-967184E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5C5F009-EA02-40D9-8A77-9EEEAA3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C5B607-E52F-43E3-9770-D352566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926F6E4-A3D4-49FC-A0EA-F9293F21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694A045-A6ED-460A-9ABA-2865101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E25F8FF-A725-452B-9654-9945C72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D6B1FEC-9FA4-42F4-A8AA-794E2F3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AE1B041-98F8-49F8-9A33-E26D809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1A5B087-70AB-42BE-8441-D356064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F9DCB00-07F0-47C6-9521-29FA3FC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2314-0CAF-4275-BED5-8B45A59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2CF8C31-7D99-416E-9F1F-813F2085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1484767-3F5E-420A-9F25-ABFC31D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17C41A0-14E6-438F-90C4-5EE772C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A2CB39-A8ED-44C4-B5F3-BD03CE4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425823-E6C1-44D8-8A6B-4B8FB18D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A0EAB8-7899-46EB-8DF0-AC676A0E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9FA13CA-F39D-41CD-B5ED-8961D2D0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07BE199-B3A1-4AA7-89C9-DDF83BA1E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C3BDCB-A42B-46F6-B7FE-C9885F4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2E8AB6-B74F-4430-84BB-C65CAD7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A87D-EB3E-4DDB-A417-B60AEA0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70CEBFD-8ED0-442B-82D7-34CA19D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2FBA4D-6E2D-4BCD-A374-DC142015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FAAD77-6E79-4AF1-BD14-1712142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F0B80CE-89D1-49BE-B8A9-10E322B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DC8B653-7CDE-4CBE-905D-798A4FD9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036C43-D20D-4192-B7B2-BE40283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DDD4A13-BD5E-4792-912C-F37978F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12AE334-8879-4286-A223-E855624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969262E-4DD2-4C7C-8793-3E13B4334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5C211B-BC23-4C0A-AE37-D2DACABF3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89F6-254A-4CEF-BAE6-70B61B9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057CDB-9501-4709-B642-96CA5E8D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F054B6-6D8A-4548-8B8B-6B2D42D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7DF3D2-008D-418B-90DD-4C1ACCA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86E8FF-443E-4823-9CB4-16F602FB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B7E1E2-3E5C-4E62-98CF-2854CC78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87B9F0-4B96-4044-957D-7DA4463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67BF14-41DA-4C40-A02D-596366E6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9D27E8-94E6-4AEF-BE0F-763DF91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EA955-C373-4707-81E7-DA0E7A99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5A9268-5392-4E50-816F-E54BCFC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1348-3B65-4CCC-AABD-85BA3DAE0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92E8C0-AF58-421E-A32B-4D346E8E7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5BD3B97-FEF8-4394-BD7D-511A93DA2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D09FE9C-FC6A-4163-A62A-B8F12C3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C782599-92B0-4F5D-AA5C-04542264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C64B53C-0355-4C18-9F66-9AF1CE85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ECE057A-BEBB-459C-8660-321BBDD8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7071547-6650-4FAE-8129-61358457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E596B56-99A8-42A6-9566-910D8F8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5CBD65C-D196-4100-87F1-E1A0257C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3CAF5A6-1AAF-4480-B7FC-492FC7B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82D3-B1D0-4C0F-94EF-564BD10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8601193-5450-427D-BA12-C84F56D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3ADBDC1-8CE1-4BD8-AB25-2EC527F7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32F31FB-FC9E-4F8A-90BC-39727E18B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0F6EF14-133D-4809-9D2B-241D3326E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A3C8E0-5767-413B-8072-E39AA68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B7FE7FF-067E-4374-A9EB-15CF985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CEA465B-7D30-4FE6-84C0-CFC7B75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6E1653-96D2-4E8E-9A2A-316FCD19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0C02633-7E2E-4A39-BFBC-6E48CC6E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D4D0167-7EAE-4CCA-94AA-115A77A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7269-46A9-4B94-A33E-BFA4FD700E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5EFC-4A89-49EF-82DD-3E53D8C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BEE81FA-45A1-405A-85E8-CE664A6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B468F01-E6B2-4321-A3E3-39C9604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24EA474-0FF0-470F-BD7C-B42A832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635EFB8-D142-4583-B940-B63A9C9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5D334E4-2E2E-41BD-A5EC-CE2773D27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F8FCC-62C0-4814-AA51-922A8C5F1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BB7D26-CB22-4AFB-8A7E-1CAF2CB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0D7425-D90A-4176-98BD-4CA79B6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593746-378B-48F9-A523-7C09919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023D23-0914-405A-9070-D72D5897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8CA5-2E57-45FC-B21A-8E2580A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B79EF9-AEB9-42FB-A488-4C77806F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7BA6FA-E2A2-4639-AC6E-6B6545A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9BD56A-D205-46AC-8854-428C8DE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21BBA7-495F-4E37-A9B0-C1898784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02C088-A730-4117-9462-A3D7C25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A09BD2-05A6-4FC3-B726-8742C15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37D0E5-E24B-4E4F-ADCF-A9E2E307E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C5D6C59-7E1A-4B4A-99DF-8846B5FE4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F304678-1039-4471-80FA-7A84E428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58E1CD8-E89F-4082-A964-057CC148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4DAF-462E-44FD-9FF5-BC55515E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1CEAA43-37CB-440B-8662-067D781F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A2322F9-FE19-4504-BEA9-E7CD9D67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843DA6C-BECC-406A-88BF-9FBFC92D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4741155-E203-4BB3-A678-D71AA4C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D997632-28AC-424F-9885-7878997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572CD48-C8A9-4353-823A-65F4698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745A90F-77F2-4FE4-80C3-C834CF8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9275E7A-A559-4C29-A5C6-009E9C6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D86CC0-7FCB-4949-A462-B2A1C7E2A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FD4A06A-CCD4-4F19-8B6F-50FD549F2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068D-339B-4BC3-9BD6-32AAF7E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8D33A39-9845-4F0B-B36D-526AB20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02DC1F9-4AE4-40EE-BE03-D0CB1A9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FE4FE3-4E59-4D67-A5DC-518103A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498553D-E876-420D-9252-C20F350B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A9FDA5B-4F46-4C0A-B0CE-C60042A0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3F8507F-F79F-4207-818D-142E892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B57651-2DA8-4B0C-9A8D-33BBCED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449A386-7E24-497F-A389-7108CD5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D112A26-7A72-49CC-9FFD-3CCB3778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FFCFC9D-0EB8-4115-B1D1-E9BD6EE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E024-2B45-4D81-A148-432D00D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52C4ADA-5725-4568-85E5-EEAFAA73D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2DE27D-5CA8-4D3F-AB79-FA339021A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28BEC4-E6B7-477E-8BC1-A8A2891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ACDB78-D72F-4BCE-9D82-115F1BB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DFB6E7-B7B8-43A4-B0F8-392EE672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D2E9D9-9049-431A-9A51-05934175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1C93CB-1E76-4ADD-B8CB-DB7C8245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80240B-C113-4DA5-A858-4858BB5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24CC07-4E68-42B1-94D2-B5A3AAF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0858FD-F78D-435E-97FA-C782B2E3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E4B2-5B18-4B53-9E5B-2441CF3E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B2D043-205C-4AED-9A97-F302AAB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0559A8-6C2C-4000-9CA8-BBB1CCF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D0BFDA-0C8B-4DA7-B505-B579F67D7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5E7A5E0-57CA-43AD-9112-E8597D6B1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A604CD1-1AE0-48B2-BC83-9FF48C3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F2BE8C-80AD-4D33-9BBC-0988CEBA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C33BB46-AA2F-4F3E-AE2E-4737B6F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C67D0A0-3305-4663-9CE4-A883D6DE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3040249-98E2-4F95-968B-B6977671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7833528-1613-4D63-8273-C1D61A4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8734-7577-4D15-8E02-D82CF3D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A0AE0F1-3E48-4A45-9819-034CF161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87E8B00-CEF0-472D-810A-1ACEAE5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8C8EB87-1BFE-41BC-94D1-39A19623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992DAF-B2F6-4B83-AB6A-9C541FF1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A49FDCF-A831-4E0B-965A-AC671888A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88CABED-CAFD-4062-8FD6-DFF8FB5BE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AD15B34-E47C-4590-90D4-57CA4F2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05C5203-FDA8-4AF4-8C95-3506E1F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F8A7CA1-3AC5-4D9C-8AAF-CBCC160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5E6B24F-B7EF-4642-9364-5A1EEEFD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7A22-2BDB-4741-A019-3F910F5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D3CDA0D-2DA5-4A8B-AE34-44D1692B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9357614-BAC1-4C7F-87DF-B4DF17C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1997D77-6FDE-401E-9A8B-4F560163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8BBBA98-8275-4DD1-AE82-A2AC962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9DA8AB5-7E1C-495D-81DB-68ADB16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6260D2A-6920-4D07-9775-7F6588B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0B73E4B-934D-457A-9F59-D9633851E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824060-D2AB-458E-8A7A-F2E317A2E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833C99-1526-4DB9-B44B-E7E56B9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DFDC11-6A6B-478F-B2F5-FA5A2D2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75CD-10B2-4546-8015-B48BBF75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2173B2-34CC-43F3-973F-3601F896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5B74EF-D7B0-4B93-8902-CA2DFF4F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3AAC86-3C1A-4566-8158-AC9B44AE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F83B6F-0ACC-475D-B1DD-116E051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6A2569-4BFE-41E9-BE0F-906D7AEA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8884CD-F5AF-40D2-AEEB-557C3624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4755DD-5F4D-44D3-BEE3-CD445C0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9A2D9E-B6B7-4691-A66F-9492F45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D62773-09B1-4570-8EDE-2119DC63F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0A418A-721C-44F9-91DB-9D8DBF18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2C2C-2A28-4EBB-B463-EED1FAE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87ADAF-4649-461A-A79D-90821C1B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C32AE1-B333-459D-961E-1ACB524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794018-8584-4B48-A8A6-F88856E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72FE29-2802-4B14-A37D-511CD7E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3768BA-7377-4594-B295-45BECE0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7FB62B-DD17-483B-980A-6A25BFC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A72B72-CBE0-4ABD-91B9-9498410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FAF445-8498-4EDA-B114-CAD0ED3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CEF6B9-5ED8-467E-94A1-BC1A0A7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492B4E-E615-4A3C-98A1-F80A8D75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7464-887D-4CFE-A5CA-21638AD00F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5E71-6011-4426-B786-B366F82E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E6DDAF-C00E-43AF-9B60-AED0AB0B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CEBFA8-CB40-441A-BE93-904A1ACE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E9A56E-6DBD-4077-BF4A-71CC3A1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F5EF53-A0A7-47C4-BB7B-CB85674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73703A-2E62-4F11-B243-3FA6613A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28F337-0509-4125-92FE-E573E31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C8FBF2-1BFC-4CFE-BF85-0BC1E75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830DB7-9068-4A77-AB0F-A1ECDE9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6BFD14-B6A9-4A39-BE7B-9163165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33A927-487B-43FD-9D60-15C7E7D2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CD661-8327-408F-B747-6291FDA0DC7F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A7D57E-6FA4-47EC-A2B9-07A4366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D05F3A-6620-4A01-A8E4-6BBA77D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181CB9-AAB2-4051-AF27-86CDA013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CEBD29-846F-4F5A-A2FA-15E6C3E0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CEC43B-DEEF-4A60-BB0B-D03D61C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3F7060-ED4A-443F-AB7F-343196C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6BF29D-A33C-4156-B55A-5E9A86F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605544-552F-4AB4-BC55-BC3C816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2CF8CA-D1C2-4145-97C2-D238EF7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B898D8-A1CE-46F0-8CFA-CA8C13D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162DF9-33AB-44A8-A04C-2A6C7D5C8333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7B2E49-6C15-45AE-87F2-16999E2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F223A9-EAA9-474C-A194-052AABA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C4C918-FCFF-47D9-8021-AC7E467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5D8D95-0D11-45D7-8EE7-F43005ED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F01A1A-5604-4D90-A6EE-07666963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1C1EBD-4899-4F30-A857-8A2E0EBD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29AA63-8DCB-44D5-B450-5017292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19E8A1-20E9-40DE-A2D7-1F03618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EC8D4A-0591-4DF6-9D85-151DDA2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72F6D4-0EFB-427C-91AA-9AD5867B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12732-91F2-4044-BD94-302DE89123D1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6D192D-206D-44AF-8A07-4D41961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B21630-38F5-404E-8495-EA3E02F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14D40D-6011-48E1-A721-D4D17B3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FA5153-D6E6-4031-808A-72C7471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35BF7F3-2C08-46B9-8952-24198D6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3595A7-5FE6-4F3F-BB87-0D540556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E17B42-6BE7-410D-A54D-235B44AA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5F65E9-E2D3-4508-AD39-5BF4CD60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33BE81-2E5B-49AF-89F5-9D354FD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DA8B66-1665-4542-ADC4-6D8CCD6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DC65B-2FA7-4CB7-93FD-CD8C028AB899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8F4CC6-220C-4585-BB79-874BDFB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AE9048-0CF5-458D-872E-6701A8C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27CB5A-67FD-4988-ADA3-996118F9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053AB7-3DB6-49BC-AE28-F10FB57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AEBBE0-CB07-43FE-8DFA-A2313FD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84D60B-F8BA-4A81-ABBA-8E27C71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42AD98-E60E-4D80-85FC-41055E63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D05059-C719-4C5A-95E3-A6CABAED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039C3D-3B10-4BFD-94F0-CA4EBB6A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0C9186-8C92-462D-B232-F53F9B07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644D2-539A-45BA-A4DE-DF004F9BC08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C8E660-2A86-42AC-9AD7-F0631774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1B6CC6C-DC38-4DFD-944E-814AA72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7F77AD-251B-43D2-A04F-DF6DF86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C3A8D6-0993-438E-AE81-10C0558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C8294C-E066-467E-BC3A-59F52C5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6824C8-202A-4565-81C7-F753757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F6C1E4-99BC-4D2A-89CB-85736FC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B118CE-01F0-41D3-BDD6-2523167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F10414-D756-4476-AFDC-6BB36D91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2083F2-C424-4456-817B-75EE33C0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342EB-49E3-40AC-9E27-2C35DF094480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45FB7C-725E-489C-8647-AFE9A920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D1B880-0853-4F18-8C5A-C2EED62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9FA3FA-862D-4384-9102-7EE2F180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5DDFE7-3737-4CA3-914C-ACCF862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01560B-CA28-4175-BDC7-31E901A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517E3E-D9ED-4DA9-833E-322F8B5B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4FF843-5969-4BE9-8138-7D9D502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68BF83-57D1-474C-94D1-8257F36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CEE949-C35E-4930-9BEE-9DDE619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B563E2-33A9-4520-A596-372CAC4C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E85C1-4A23-46DC-8B65-96891DDAF2D6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7186BE-164D-4187-9E78-2D07DF72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6A3567-5E7F-4C1A-B5AF-EB7CFE8D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720454-022D-45DB-A698-4C814074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AD97586-1293-4D3D-A6AA-80653B0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A2C10F-9C05-46E1-AB98-9B988A0B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15DC35-9512-49C9-AB74-6DAAE9FE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402AF3-583C-4D3C-A059-4EFBC24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D43D5D-6D8C-4B96-BCFD-BC4AC3DD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5686AA-5D31-453A-A0BD-6E0F65BA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D5ADF7-2FAE-4530-AA1D-1B5ACEB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85D3E-D9CF-4734-A1C7-AE74896794B4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706696-34A4-4034-B690-C2B086F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7C2BE3-0A86-4DDD-91F5-ABB956C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132D76-6E49-4A32-8638-2FDEEB82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8FF1A7-08BD-49CD-888C-ED6261C7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A34972-8C71-41ED-AD07-D38C2A81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9B3E19-3BB7-4AAF-8D21-09516075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B43915-4523-428A-874A-42D377B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4BA86A-AE0F-47A6-B3BF-1DA628D2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43050C-8A9A-4658-A901-60C9CE07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E3000D-1619-4149-B00A-CF6A48F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53E6D-1506-46BC-8624-1DCDB43B4572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5012DE-AC66-49D5-B87D-539D0F18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4F0D45-1D5E-4055-8FDC-E1E3A13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3CAAB4-DE60-42D4-9898-2F3D72E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64D8B7-6577-4E11-872E-621387B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D1FE39-8BE6-47F7-80FA-C40D1DF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421E18-2860-4784-9FD5-04F2B8F2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3F283D-C4D9-442C-A3B3-ED768DAC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405144-0A8D-47E8-8FC2-0CB2C9A9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1FB524-835C-4882-9376-85BA98C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A382ED-3AEB-428C-AE4D-10D03D1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8637-D7F1-4904-8D1B-0EEEA2E29D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A4BCB-183E-4C34-B04E-38FBFC01D945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85D3F6-CB67-400E-BDED-2C12585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FC0332-02ED-487D-BB74-6DE1B3FD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EB984A-82CF-4156-9818-B5821452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42A948E-5099-4A6E-8A8F-44C57B9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869333-FD05-4316-B25F-E908EF9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8968B5-C1C4-4633-9812-7F3133E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C18F4D-EA63-494E-8D16-858FF4E5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FFBF2D-B49D-437C-86E1-8A1495AF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C407CD-2A78-4877-B50D-F00D17B9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02CBAF-B749-437B-821B-DD918F4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7D270-DBFA-4ACE-A58A-52113E9EF522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0F6894-FF67-47AA-A51E-97267715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72E877-DDC4-4450-AD17-00ECF0B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ED082C-27E6-423F-A011-28B60CD3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5DAEE7-CC21-4C4C-8E78-8F75F13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BDEF50-A05A-46B1-9F0B-612C026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539DE4-1CE6-4F7D-B4B2-B4F87F7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8A4B27-DB07-490F-80C7-413A7AD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6F4350-23C0-462C-89A8-EDFDCBA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1636E0A-F747-4091-A663-961ED10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1200DC-8F5F-42BB-B02F-1BF0856B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AC3F3D-55A6-4F69-945B-D185BEF091E8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739150-55A7-495D-BEF2-D187408D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9D947-4949-441F-A036-F697B46FA5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2EA94-D206-452B-870B-B8283B9A72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92A9-C27D-4176-8AA0-AAE6F56302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1266F-0F13-4966-8709-BED84B0C9E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CE5B9-5EDD-431D-9D7F-BF47A5F86D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556F6-E9DD-4BFF-81FF-A449CAB309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F4836-437A-4E69-95E5-678330FF7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8260-8AB7-46C9-B646-C3B4F51D5F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3B7F6-8F20-4911-9165-8FC2666E08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CC2DD-9F07-446D-A6B6-60B8F4CE0D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91F14-17DE-4B41-B8DE-DAE61E27EA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9635A-F476-40F6-B4C1-60933571B3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0C29A-9037-45B5-96D7-2F5B894CED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AC39-FAAA-4CBC-9CC4-6144B5ECCF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45CC-FD0D-4A42-87FC-C521A2EAF1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3B1A-7CCE-447E-BFBF-5791E017D0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CE72-002A-4B66-9225-EB0F72C07D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1757-694B-4F6B-AAC4-8D3150F90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4135-E3B7-4DC8-9E03-D665C10020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7C16-43D6-4744-97DA-4CC9E030F3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5752-7699-46DE-BBFA-09FCD15350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C08C-01B2-4640-95D1-42E13629B7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D11D-467D-48C4-84DD-48C7876358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1B47-2E08-4CE5-84BA-FFB49A5C081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ECA3-9323-4880-A9AA-92741334D6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677D-BAEE-42D2-BB4C-337443C20F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C1AD50-ACC9-41A8-830F-E8E72DD2F6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0AFEB-71BD-47F0-AD90-C802F915ED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2BBF7-C20B-44DB-BACC-7FE95D4A8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46B-55AB-4809-ACC9-223015AD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004-F65D-450B-A0F9-6511F4E6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F65-1C05-4C04-8B01-F8CBF020B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D16-50C5-4F68-A7AE-DF7BB55BE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774F-D8C5-4882-8B26-5C5EEE9C3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CC2-250F-48B9-80D4-15BB706EB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F57-E6FE-4ACE-B298-473E99105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EA6-91D9-47F9-AA07-E966C80E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3072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3072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307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3072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3072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307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3072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E22C-EF16-4651-A422-C2C9B101C54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9877-8308-4961-9BA5-0B8AA602EC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60A5-2E6C-43BC-B181-0759935A69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969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2969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970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970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970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970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27F-67E6-470E-ACAA-10FFD5B7FB1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801-3399-44F3-B695-7EED53A479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A440-2DAE-42CB-90AE-8EF9DC9E29E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A2A-F7B9-4101-B2CC-DF671D0ACF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6CB-DE33-4BDD-943A-60368AB808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108-746F-4159-88D1-BC5A22576A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C8FA-F0FD-4241-80CB-7D2761F478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CC4-0807-4B8C-AF30-A1646027AE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179-3DF3-4C72-8051-F7F9D55297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C7BF-DD19-454A-BC6C-E2BDDF9AADB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F55F-33D0-43C3-ABA6-BF4E74EC70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CB8-9959-4FC8-9C0E-4D5057E9B79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C154-218E-47A7-9061-C47851246D4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B99C-830E-46B2-A644-A2650747B10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FE3-6CB1-4D2B-A137-B16612E86B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748-5866-4116-9B80-03D3698D2F3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072-AAB7-48F6-AD6B-39617E5E49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9F0-DF09-4CF9-B053-3D8BC807EE9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87A-5E4E-468F-93DC-E22203359B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C05-01FC-4D92-8277-59E5FC0CA6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E29-FFE2-46DE-A753-A63286791B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DC9-A070-4873-978C-7DDED82C80E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DA5-D317-4C82-BEE6-44421A2E61D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614-DE1E-4B3B-87A1-5C5896824E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C86F-72B1-4992-A244-775ACFF459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72B-A4B6-42EA-B0E1-86821C2C3C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CEE-F787-4C4D-B2F4-645703050F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5214-FD77-4811-88F2-0C664EB19B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69E-1B96-4964-BE92-7E71D7A13B2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C53-2B53-4251-A303-9918D38C7EB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A28-48B3-4E9F-9D4B-5360A87DF73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732-2E00-4F3B-9C24-732C7B037B5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FF4B-D855-4391-A803-6A12CDEF34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8D9-D392-4EA8-AC6C-BD3822064FE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94B-B146-4C55-B68C-A403FA1916E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860-BA87-468C-867A-52F2B24C80B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1C8-0911-4792-B19B-844253CA86E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816-A4B2-4D67-8D0F-CA70CEC703D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44B-8AF1-477B-97CE-BC31D070072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E56-EDD2-46EE-ADCC-552890DC101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8501-DAA9-4BE5-8518-85A563FFED6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7EE-8127-469B-A80C-1610610A552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C2E-D1B5-4673-8782-0323C00E169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077-2B07-48DF-9987-D7CAEFD5698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B06-0B26-4ADD-9497-9F987387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CF7-585E-412D-B74C-2FD1839CDEC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9197-51BE-4EFD-9CB5-6F543875B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839-532D-4B16-9428-D868E694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D8B6-FA1A-4E70-AB3A-0023551F5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image" Target="../media/image80.wmf"/><Relationship Id="rId8" Type="http://schemas.openxmlformats.org/officeDocument/2006/relationships/image" Target="../media/image81.wmf"/><Relationship Id="rId9" Type="http://schemas.openxmlformats.org/officeDocument/2006/relationships/image" Target="../media/image82.wmf"/><Relationship Id="rId10" Type="http://schemas.openxmlformats.org/officeDocument/2006/relationships/image" Target="../media/image62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image" Target="../media/image65.wmf"/><Relationship Id="rId14" Type="http://schemas.openxmlformats.org/officeDocument/2006/relationships/image" Target="../media/image66.wmf"/><Relationship Id="rId15" Type="http://schemas.openxmlformats.org/officeDocument/2006/relationships/image" Target="../media/image67.wmf"/><Relationship Id="rId16" Type="http://schemas.openxmlformats.org/officeDocument/2006/relationships/image" Target="../media/image68.wmf"/><Relationship Id="rId17" Type="http://schemas.openxmlformats.org/officeDocument/2006/relationships/image" Target="../media/image69.wmf"/><Relationship Id="rId18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jpeg"/><Relationship Id="rId10" Type="http://schemas.openxmlformats.org/officeDocument/2006/relationships/image" Target="../media/image42.wmf"/><Relationship Id="rId11" Type="http://schemas.openxmlformats.org/officeDocument/2006/relationships/image" Target="../media/image43.wmf"/><Relationship Id="rId12" Type="http://schemas.openxmlformats.org/officeDocument/2006/relationships/image" Target="../media/image44.wmf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2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image" Target="../media/image65.wmf"/><Relationship Id="rId14" Type="http://schemas.openxmlformats.org/officeDocument/2006/relationships/image" Target="../media/image66.wmf"/><Relationship Id="rId15" Type="http://schemas.openxmlformats.org/officeDocument/2006/relationships/image" Target="../media/image67.wmf"/><Relationship Id="rId16" Type="http://schemas.openxmlformats.org/officeDocument/2006/relationships/image" Target="../media/image68.wmf"/><Relationship Id="rId17" Type="http://schemas.openxmlformats.org/officeDocument/2006/relationships/image" Target="../media/image69.wmf"/><Relationship Id="rId18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9"/>
          <p:cNvSpPr/>
          <p:nvPr/>
        </p:nvSpPr>
        <p:spPr>
          <a:xfrm>
            <a:off x="8291520" y="1803240"/>
            <a:ext cx="430200" cy="432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2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5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8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1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4"/>
          <p:cNvSpPr/>
          <p:nvPr/>
        </p:nvSpPr>
        <p:spPr>
          <a:xfrm>
            <a:off x="1908000" y="119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总复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矩形 25"/>
          <p:cNvSpPr/>
          <p:nvPr/>
        </p:nvSpPr>
        <p:spPr>
          <a:xfrm>
            <a:off x="2286000" y="2890800"/>
            <a:ext cx="55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分数乘除法、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6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5" name="Text Box 4"/>
          <p:cNvSpPr/>
          <p:nvPr/>
        </p:nvSpPr>
        <p:spPr>
          <a:xfrm>
            <a:off x="4463640" y="1989000"/>
            <a:ext cx="37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个数相除又叫做两个数的比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6" name="Group 5"/>
          <p:cNvGrpSpPr/>
          <p:nvPr/>
        </p:nvGrpSpPr>
        <p:grpSpPr>
          <a:xfrm>
            <a:off x="5429520" y="2641680"/>
            <a:ext cx="1639080" cy="657720"/>
            <a:chOff x="5429520" y="2641680"/>
            <a:chExt cx="1639080" cy="657720"/>
          </a:xfrm>
        </p:grpSpPr>
        <p:sp>
          <p:nvSpPr>
            <p:cNvPr id="2777" name="Text Box 6"/>
            <p:cNvSpPr/>
            <p:nvPr/>
          </p:nvSpPr>
          <p:spPr>
            <a:xfrm>
              <a:off x="5429520" y="2718000"/>
              <a:ext cx="16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5     1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7"/>
            <p:cNvSpPr/>
            <p:nvPr/>
          </p:nvSpPr>
          <p:spPr>
            <a:xfrm>
              <a:off x="6217200" y="2641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Text Box 8"/>
          <p:cNvSpPr/>
          <p:nvPr/>
        </p:nvSpPr>
        <p:spPr>
          <a:xfrm>
            <a:off x="2114640" y="2717640"/>
            <a:ext cx="25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Group 9"/>
          <p:cNvGrpSpPr/>
          <p:nvPr/>
        </p:nvGrpSpPr>
        <p:grpSpPr>
          <a:xfrm>
            <a:off x="5429520" y="3218040"/>
            <a:ext cx="1639080" cy="657720"/>
            <a:chOff x="5429520" y="3218040"/>
            <a:chExt cx="1639080" cy="657720"/>
          </a:xfrm>
        </p:grpSpPr>
        <p:sp>
          <p:nvSpPr>
            <p:cNvPr id="2781" name="Text Box 10"/>
            <p:cNvSpPr/>
            <p:nvPr/>
          </p:nvSpPr>
          <p:spPr>
            <a:xfrm>
              <a:off x="5429520" y="3294360"/>
              <a:ext cx="16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0     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Rectangle 11"/>
            <p:cNvSpPr/>
            <p:nvPr/>
          </p:nvSpPr>
          <p:spPr>
            <a:xfrm>
              <a:off x="6217200" y="32180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3" name="Text Box 12"/>
          <p:cNvSpPr/>
          <p:nvPr/>
        </p:nvSpPr>
        <p:spPr>
          <a:xfrm>
            <a:off x="2114640" y="3294000"/>
            <a:ext cx="25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4" name="Group 13"/>
          <p:cNvGrpSpPr/>
          <p:nvPr/>
        </p:nvGrpSpPr>
        <p:grpSpPr>
          <a:xfrm>
            <a:off x="5403960" y="3735360"/>
            <a:ext cx="2233440" cy="624240"/>
            <a:chOff x="5403960" y="3735360"/>
            <a:chExt cx="2233440" cy="624240"/>
          </a:xfrm>
        </p:grpSpPr>
        <p:sp>
          <p:nvSpPr>
            <p:cNvPr id="2785" name="Text Box 14"/>
            <p:cNvSpPr/>
            <p:nvPr/>
          </p:nvSpPr>
          <p:spPr>
            <a:xfrm>
              <a:off x="5403960" y="3778200"/>
              <a:ext cx="22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2252    9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Rectangle 15"/>
            <p:cNvSpPr/>
            <p:nvPr/>
          </p:nvSpPr>
          <p:spPr>
            <a:xfrm>
              <a:off x="6572160" y="3735360"/>
              <a:ext cx="73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7" name="Text Box 16"/>
          <p:cNvSpPr/>
          <p:nvPr/>
        </p:nvSpPr>
        <p:spPr>
          <a:xfrm>
            <a:off x="1517760" y="3865680"/>
            <a:ext cx="33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225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0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矩形 38"/>
          <p:cNvSpPr/>
          <p:nvPr/>
        </p:nvSpPr>
        <p:spPr>
          <a:xfrm>
            <a:off x="1828800" y="134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比的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组合 45"/>
          <p:cNvGrpSpPr/>
          <p:nvPr/>
        </p:nvGrpSpPr>
        <p:grpSpPr>
          <a:xfrm>
            <a:off x="1228320" y="4437000"/>
            <a:ext cx="7147800" cy="1793880"/>
            <a:chOff x="1228320" y="4437000"/>
            <a:chExt cx="7147800" cy="1793880"/>
          </a:xfrm>
        </p:grpSpPr>
        <p:sp>
          <p:nvSpPr>
            <p:cNvPr id="2790" name="Text Box 5"/>
            <p:cNvSpPr/>
            <p:nvPr/>
          </p:nvSpPr>
          <p:spPr>
            <a:xfrm>
              <a:off x="1228320" y="4674600"/>
              <a:ext cx="7147800" cy="15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buClr>
                  <a:srgbClr val="ff0000"/>
                </a:buClr>
                <a:buFont typeface="Arial"/>
                <a:buAutoNum type="arabicPlain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︰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也可以写成      ，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仍读作“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比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”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。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1" name="Group 6" descr=""/>
            <p:cNvPicPr/>
            <p:nvPr/>
          </p:nvPicPr>
          <p:blipFill>
            <a:blip r:embed="rId1"/>
            <a:stretch/>
          </p:blipFill>
          <p:spPr>
            <a:xfrm>
              <a:off x="6443280" y="4437000"/>
              <a:ext cx="1207080" cy="131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9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94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2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10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10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9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0" name="Rectangle 4"/>
          <p:cNvSpPr/>
          <p:nvPr/>
        </p:nvSpPr>
        <p:spPr>
          <a:xfrm>
            <a:off x="4786200" y="3357720"/>
            <a:ext cx="64944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Rectangle 5"/>
          <p:cNvSpPr/>
          <p:nvPr/>
        </p:nvSpPr>
        <p:spPr>
          <a:xfrm>
            <a:off x="6875640" y="3357720"/>
            <a:ext cx="64764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Rectangle 6"/>
          <p:cNvSpPr/>
          <p:nvPr/>
        </p:nvSpPr>
        <p:spPr>
          <a:xfrm>
            <a:off x="5937120" y="3357720"/>
            <a:ext cx="649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Rectangle 7"/>
          <p:cNvSpPr/>
          <p:nvPr/>
        </p:nvSpPr>
        <p:spPr>
          <a:xfrm>
            <a:off x="3635280" y="3357720"/>
            <a:ext cx="6476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8"/>
          <p:cNvSpPr/>
          <p:nvPr/>
        </p:nvSpPr>
        <p:spPr>
          <a:xfrm>
            <a:off x="453564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9"/>
          <p:cNvSpPr/>
          <p:nvPr/>
        </p:nvSpPr>
        <p:spPr>
          <a:xfrm>
            <a:off x="4308840" y="48625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6" name="Group 11"/>
          <p:cNvGrpSpPr/>
          <p:nvPr/>
        </p:nvGrpSpPr>
        <p:grpSpPr>
          <a:xfrm>
            <a:off x="3605040" y="3305160"/>
            <a:ext cx="2351160" cy="775440"/>
            <a:chOff x="3605040" y="3305160"/>
            <a:chExt cx="2351160" cy="775440"/>
          </a:xfrm>
        </p:grpSpPr>
        <p:sp>
          <p:nvSpPr>
            <p:cNvPr id="2817" name="Text Box 12"/>
            <p:cNvSpPr/>
            <p:nvPr/>
          </p:nvSpPr>
          <p:spPr>
            <a:xfrm>
              <a:off x="3605040" y="3376440"/>
              <a:ext cx="187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    1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Rectangle 13"/>
            <p:cNvSpPr/>
            <p:nvPr/>
          </p:nvSpPr>
          <p:spPr>
            <a:xfrm>
              <a:off x="4452120" y="3305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Rectangle 14"/>
            <p:cNvSpPr/>
            <p:nvPr/>
          </p:nvSpPr>
          <p:spPr>
            <a:xfrm>
              <a:off x="5440320" y="33163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0" name="Group 15"/>
          <p:cNvGrpSpPr/>
          <p:nvPr/>
        </p:nvGrpSpPr>
        <p:grpSpPr>
          <a:xfrm>
            <a:off x="5821920" y="3303720"/>
            <a:ext cx="2079000" cy="776880"/>
            <a:chOff x="5821920" y="3303720"/>
            <a:chExt cx="2079000" cy="776880"/>
          </a:xfrm>
        </p:grpSpPr>
        <p:sp>
          <p:nvSpPr>
            <p:cNvPr id="2821" name="Text Box 16"/>
            <p:cNvSpPr/>
            <p:nvPr/>
          </p:nvSpPr>
          <p:spPr>
            <a:xfrm>
              <a:off x="5821920" y="3376800"/>
              <a:ext cx="173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   1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Rectangle 17"/>
            <p:cNvSpPr/>
            <p:nvPr/>
          </p:nvSpPr>
          <p:spPr>
            <a:xfrm>
              <a:off x="6462720" y="330372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Rectangle 18"/>
            <p:cNvSpPr/>
            <p:nvPr/>
          </p:nvSpPr>
          <p:spPr>
            <a:xfrm>
              <a:off x="7385040" y="33163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4" name="Group 19"/>
          <p:cNvGrpSpPr/>
          <p:nvPr/>
        </p:nvGrpSpPr>
        <p:grpSpPr>
          <a:xfrm>
            <a:off x="7845480" y="3187800"/>
            <a:ext cx="685800" cy="1147320"/>
            <a:chOff x="7845480" y="3187800"/>
            <a:chExt cx="685800" cy="1147320"/>
          </a:xfrm>
        </p:grpSpPr>
        <p:sp>
          <p:nvSpPr>
            <p:cNvPr id="2825" name="Text Box 20"/>
            <p:cNvSpPr/>
            <p:nvPr/>
          </p:nvSpPr>
          <p:spPr>
            <a:xfrm>
              <a:off x="8096040" y="36925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Text Box 21"/>
            <p:cNvSpPr/>
            <p:nvPr/>
          </p:nvSpPr>
          <p:spPr>
            <a:xfrm>
              <a:off x="8093160" y="31878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Text Box 22"/>
            <p:cNvSpPr/>
            <p:nvPr/>
          </p:nvSpPr>
          <p:spPr>
            <a:xfrm>
              <a:off x="7845480" y="3319560"/>
              <a:ext cx="18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Line 23"/>
            <p:cNvSpPr/>
            <p:nvPr/>
          </p:nvSpPr>
          <p:spPr>
            <a:xfrm>
              <a:off x="8096400" y="37641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9" name="Group 24"/>
          <p:cNvGrpSpPr/>
          <p:nvPr/>
        </p:nvGrpSpPr>
        <p:grpSpPr>
          <a:xfrm>
            <a:off x="539640" y="2060640"/>
            <a:ext cx="2592360" cy="1981440"/>
            <a:chOff x="539640" y="2060640"/>
            <a:chExt cx="2592360" cy="1981440"/>
          </a:xfrm>
        </p:grpSpPr>
        <p:grpSp>
          <p:nvGrpSpPr>
            <p:cNvPr id="2830" name="Group 25"/>
            <p:cNvGrpSpPr/>
            <p:nvPr/>
          </p:nvGrpSpPr>
          <p:grpSpPr>
            <a:xfrm>
              <a:off x="826920" y="2060640"/>
              <a:ext cx="2016360" cy="1255680"/>
              <a:chOff x="826920" y="2060640"/>
              <a:chExt cx="2016360" cy="1255680"/>
            </a:xfrm>
          </p:grpSpPr>
          <p:sp>
            <p:nvSpPr>
              <p:cNvPr id="2831" name="Rectangle 26"/>
              <p:cNvSpPr/>
              <p:nvPr/>
            </p:nvSpPr>
            <p:spPr>
              <a:xfrm>
                <a:off x="826920" y="2060640"/>
                <a:ext cx="2016360" cy="1255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AutoShape 27"/>
              <p:cNvSpPr/>
              <p:nvPr/>
            </p:nvSpPr>
            <p:spPr>
              <a:xfrm>
                <a:off x="1268280" y="2748600"/>
                <a:ext cx="134280" cy="132120"/>
              </a:xfrm>
              <a:custGeom>
                <a:avLst/>
                <a:gdLst/>
                <a:ahLst/>
                <a:rect l="l" t="t" r="r" b="b"/>
                <a:pathLst>
                  <a:path w="318" h="303">
                    <a:moveTo>
                      <a:pt x="0" y="116"/>
                    </a:moveTo>
                    <a:lnTo>
                      <a:pt x="121" y="116"/>
                    </a:lnTo>
                    <a:lnTo>
                      <a:pt x="159" y="0"/>
                    </a:lnTo>
                    <a:lnTo>
                      <a:pt x="197" y="116"/>
                    </a:lnTo>
                    <a:lnTo>
                      <a:pt x="318" y="116"/>
                    </a:lnTo>
                    <a:lnTo>
                      <a:pt x="220" y="187"/>
                    </a:lnTo>
                    <a:lnTo>
                      <a:pt x="257" y="303"/>
                    </a:lnTo>
                    <a:lnTo>
                      <a:pt x="159" y="231"/>
                    </a:lnTo>
                    <a:lnTo>
                      <a:pt x="61" y="303"/>
                    </a:lnTo>
                    <a:lnTo>
                      <a:pt x="98" y="1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AutoShape 28"/>
              <p:cNvSpPr/>
              <p:nvPr/>
            </p:nvSpPr>
            <p:spPr>
              <a:xfrm rot="20530800">
                <a:off x="1383480" y="260748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AutoShape 29"/>
              <p:cNvSpPr/>
              <p:nvPr/>
            </p:nvSpPr>
            <p:spPr>
              <a:xfrm rot="20973000">
                <a:off x="1479960" y="266724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AutoShape 30"/>
              <p:cNvSpPr/>
              <p:nvPr/>
            </p:nvSpPr>
            <p:spPr>
              <a:xfrm>
                <a:off x="1518120" y="278172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AutoShape 31"/>
              <p:cNvSpPr/>
              <p:nvPr/>
            </p:nvSpPr>
            <p:spPr>
              <a:xfrm>
                <a:off x="1479960" y="290052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7" name="Text Box 32"/>
            <p:cNvSpPr/>
            <p:nvPr/>
          </p:nvSpPr>
          <p:spPr>
            <a:xfrm>
              <a:off x="539640" y="364320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长和宽的比是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5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Text Box 33"/>
            <p:cNvSpPr/>
            <p:nvPr/>
          </p:nvSpPr>
          <p:spPr>
            <a:xfrm>
              <a:off x="1073880" y="326880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5÷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9" name="Line 34"/>
          <p:cNvSpPr/>
          <p:nvPr/>
        </p:nvSpPr>
        <p:spPr>
          <a:xfrm>
            <a:off x="403236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35"/>
          <p:cNvSpPr/>
          <p:nvPr/>
        </p:nvSpPr>
        <p:spPr>
          <a:xfrm>
            <a:off x="504036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36"/>
          <p:cNvSpPr/>
          <p:nvPr/>
        </p:nvSpPr>
        <p:spPr>
          <a:xfrm>
            <a:off x="3804120" y="4869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37"/>
          <p:cNvSpPr/>
          <p:nvPr/>
        </p:nvSpPr>
        <p:spPr>
          <a:xfrm>
            <a:off x="4821480" y="48830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38"/>
          <p:cNvSpPr/>
          <p:nvPr/>
        </p:nvSpPr>
        <p:spPr>
          <a:xfrm>
            <a:off x="8292960" y="414180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 Box 39"/>
          <p:cNvSpPr/>
          <p:nvPr/>
        </p:nvSpPr>
        <p:spPr>
          <a:xfrm>
            <a:off x="8074440" y="48830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Group 40"/>
          <p:cNvGrpSpPr/>
          <p:nvPr/>
        </p:nvGrpSpPr>
        <p:grpSpPr>
          <a:xfrm>
            <a:off x="3995640" y="3141720"/>
            <a:ext cx="1798560" cy="216000"/>
            <a:chOff x="3995640" y="3141720"/>
            <a:chExt cx="1798560" cy="216000"/>
          </a:xfrm>
        </p:grpSpPr>
        <p:sp>
          <p:nvSpPr>
            <p:cNvPr id="2846" name="Line 41"/>
            <p:cNvSpPr/>
            <p:nvPr/>
          </p:nvSpPr>
          <p:spPr>
            <a:xfrm flipV="1">
              <a:off x="3995640" y="3141720"/>
              <a:ext cx="0" cy="216000"/>
            </a:xfrm>
            <a:prstGeom prst="line">
              <a:avLst/>
            </a:prstGeom>
            <a:ln cap="rnd" w="38160">
              <a:solidFill>
                <a:srgbClr val="ff99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42"/>
            <p:cNvSpPr/>
            <p:nvPr/>
          </p:nvSpPr>
          <p:spPr>
            <a:xfrm>
              <a:off x="3995640" y="3213000"/>
              <a:ext cx="179856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Text Box 43"/>
          <p:cNvSpPr/>
          <p:nvPr/>
        </p:nvSpPr>
        <p:spPr>
          <a:xfrm>
            <a:off x="58892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被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9" name="Group 44"/>
          <p:cNvGrpSpPr/>
          <p:nvPr/>
        </p:nvGrpSpPr>
        <p:grpSpPr>
          <a:xfrm>
            <a:off x="5003640" y="4005360"/>
            <a:ext cx="1798560" cy="215640"/>
            <a:chOff x="5003640" y="4005360"/>
            <a:chExt cx="1798560" cy="215640"/>
          </a:xfrm>
        </p:grpSpPr>
        <p:sp>
          <p:nvSpPr>
            <p:cNvPr id="2850" name="Line 45"/>
            <p:cNvSpPr/>
            <p:nvPr/>
          </p:nvSpPr>
          <p:spPr>
            <a:xfrm>
              <a:off x="5003640" y="4005360"/>
              <a:ext cx="0" cy="215640"/>
            </a:xfrm>
            <a:prstGeom prst="line">
              <a:avLst/>
            </a:prstGeom>
            <a:ln cap="rnd" w="38160">
              <a:solidFill>
                <a:srgbClr val="ff99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46"/>
            <p:cNvSpPr/>
            <p:nvPr/>
          </p:nvSpPr>
          <p:spPr>
            <a:xfrm>
              <a:off x="5003640" y="4149720"/>
              <a:ext cx="179856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2" name="Text Box 47"/>
          <p:cNvSpPr/>
          <p:nvPr/>
        </p:nvSpPr>
        <p:spPr>
          <a:xfrm>
            <a:off x="6854400" y="39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48"/>
          <p:cNvSpPr/>
          <p:nvPr/>
        </p:nvSpPr>
        <p:spPr>
          <a:xfrm>
            <a:off x="816768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49"/>
          <p:cNvSpPr/>
          <p:nvPr/>
        </p:nvSpPr>
        <p:spPr>
          <a:xfrm flipH="1" flipV="1">
            <a:off x="6370560" y="2900160"/>
            <a:ext cx="432000" cy="431640"/>
          </a:xfrm>
          <a:prstGeom prst="line">
            <a:avLst/>
          </a:prstGeom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50"/>
          <p:cNvSpPr/>
          <p:nvPr/>
        </p:nvSpPr>
        <p:spPr>
          <a:xfrm>
            <a:off x="3778200" y="1819440"/>
            <a:ext cx="417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值通常用分数表示，也可以用小数或整数表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5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5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250" autoRev="1" fill="hold"/>
                                        <p:tgtEl>
                                          <p:spTgt spid="2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0" dur="10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3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6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Group 3"/>
          <p:cNvGrpSpPr/>
          <p:nvPr/>
        </p:nvGrpSpPr>
        <p:grpSpPr>
          <a:xfrm>
            <a:off x="539640" y="4149720"/>
            <a:ext cx="7416720" cy="938160"/>
            <a:chOff x="539640" y="4149720"/>
            <a:chExt cx="7416720" cy="938160"/>
          </a:xfrm>
        </p:grpSpPr>
        <p:sp>
          <p:nvSpPr>
            <p:cNvPr id="2875" name="Rectangle 4"/>
            <p:cNvSpPr/>
            <p:nvPr/>
          </p:nvSpPr>
          <p:spPr>
            <a:xfrm>
              <a:off x="539640" y="4151160"/>
              <a:ext cx="7416720" cy="935280"/>
            </a:xfrm>
            <a:prstGeom prst="rect">
              <a:avLst/>
            </a:prstGeom>
            <a:solidFill>
              <a:srgbClr val="aed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Line 5"/>
            <p:cNvSpPr/>
            <p:nvPr/>
          </p:nvSpPr>
          <p:spPr>
            <a:xfrm>
              <a:off x="53964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Line 6"/>
            <p:cNvSpPr/>
            <p:nvPr/>
          </p:nvSpPr>
          <p:spPr>
            <a:xfrm>
              <a:off x="1763640" y="4149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7"/>
            <p:cNvSpPr/>
            <p:nvPr/>
          </p:nvSpPr>
          <p:spPr>
            <a:xfrm>
              <a:off x="3492360" y="4149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8"/>
            <p:cNvSpPr/>
            <p:nvPr/>
          </p:nvSpPr>
          <p:spPr>
            <a:xfrm>
              <a:off x="536400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Line 9"/>
            <p:cNvSpPr/>
            <p:nvPr/>
          </p:nvSpPr>
          <p:spPr>
            <a:xfrm>
              <a:off x="658800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Line 10"/>
            <p:cNvSpPr/>
            <p:nvPr/>
          </p:nvSpPr>
          <p:spPr>
            <a:xfrm>
              <a:off x="795636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Line 11"/>
            <p:cNvSpPr/>
            <p:nvPr/>
          </p:nvSpPr>
          <p:spPr>
            <a:xfrm>
              <a:off x="539640" y="5086440"/>
              <a:ext cx="741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Text Box 12"/>
            <p:cNvSpPr/>
            <p:nvPr/>
          </p:nvSpPr>
          <p:spPr>
            <a:xfrm>
              <a:off x="796320" y="429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Text Box 13"/>
            <p:cNvSpPr/>
            <p:nvPr/>
          </p:nvSpPr>
          <p:spPr>
            <a:xfrm>
              <a:off x="2236320" y="429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Text Box 14"/>
            <p:cNvSpPr/>
            <p:nvPr/>
          </p:nvSpPr>
          <p:spPr>
            <a:xfrm>
              <a:off x="3492360" y="4282920"/>
              <a:ext cx="21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线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Text Box 15"/>
            <p:cNvSpPr/>
            <p:nvPr/>
          </p:nvSpPr>
          <p:spPr>
            <a:xfrm>
              <a:off x="5693760" y="4351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Text Box 16"/>
            <p:cNvSpPr/>
            <p:nvPr/>
          </p:nvSpPr>
          <p:spPr>
            <a:xfrm>
              <a:off x="6876720" y="4367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值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88" name=""/>
          <p:cNvGraphicFramePr/>
          <p:nvPr/>
        </p:nvGraphicFramePr>
        <p:xfrm>
          <a:off x="539640" y="2708280"/>
          <a:ext cx="7416720" cy="2016000"/>
        </p:xfrm>
        <a:graphic>
          <a:graphicData uri="http://schemas.openxmlformats.org/drawingml/2006/table">
            <a:tbl>
              <a:tblPr/>
              <a:tblGrid>
                <a:gridCol w="1224000"/>
                <a:gridCol w="1719360"/>
                <a:gridCol w="1881000"/>
                <a:gridCol w="1224000"/>
                <a:gridCol w="1368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号（∶）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后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值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法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被除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号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÷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商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</a:tr>
            </a:tbl>
          </a:graphicData>
        </a:graphic>
      </p:graphicFrame>
      <p:sp>
        <p:nvSpPr>
          <p:cNvPr id="2889" name="Oval 40"/>
          <p:cNvSpPr/>
          <p:nvPr/>
        </p:nvSpPr>
        <p:spPr>
          <a:xfrm>
            <a:off x="5364000" y="2730600"/>
            <a:ext cx="1079640" cy="2282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41"/>
          <p:cNvSpPr/>
          <p:nvPr/>
        </p:nvSpPr>
        <p:spPr>
          <a:xfrm flipV="1">
            <a:off x="6013440" y="2366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42"/>
          <p:cNvSpPr/>
          <p:nvPr/>
        </p:nvSpPr>
        <p:spPr>
          <a:xfrm>
            <a:off x="5266800" y="1960560"/>
            <a:ext cx="121680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可以是</a:t>
            </a:r>
            <a:r>
              <a:rPr b="1" lang="en-US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Oval 43"/>
          <p:cNvSpPr/>
          <p:nvPr/>
        </p:nvSpPr>
        <p:spPr>
          <a:xfrm>
            <a:off x="6588000" y="2727360"/>
            <a:ext cx="1297080" cy="2286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Line 44"/>
          <p:cNvSpPr/>
          <p:nvPr/>
        </p:nvSpPr>
        <p:spPr>
          <a:xfrm flipV="1">
            <a:off x="7380360" y="23410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45"/>
          <p:cNvSpPr/>
          <p:nvPr/>
        </p:nvSpPr>
        <p:spPr>
          <a:xfrm>
            <a:off x="7171560" y="1960560"/>
            <a:ext cx="124740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可以是哪些数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46"/>
          <p:cNvSpPr/>
          <p:nvPr/>
        </p:nvSpPr>
        <p:spPr>
          <a:xfrm>
            <a:off x="8295840" y="330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47"/>
          <p:cNvSpPr/>
          <p:nvPr/>
        </p:nvSpPr>
        <p:spPr>
          <a:xfrm>
            <a:off x="8172360" y="35892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小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48"/>
          <p:cNvSpPr/>
          <p:nvPr/>
        </p:nvSpPr>
        <p:spPr>
          <a:xfrm>
            <a:off x="8295840" y="387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整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AutoShape 49"/>
          <p:cNvSpPr/>
          <p:nvPr/>
        </p:nvSpPr>
        <p:spPr>
          <a:xfrm>
            <a:off x="7956720" y="2800440"/>
            <a:ext cx="360360" cy="2141280"/>
          </a:xfrm>
          <a:custGeom>
            <a:avLst/>
            <a:gdLst>
              <a:gd name="textAreaLeft" fmla="*/ 0 w 360360"/>
              <a:gd name="textAreaRight" fmla="*/ 129960 w 360360"/>
              <a:gd name="textAreaTop" fmla="*/ 55800 h 2141280"/>
              <a:gd name="textAreaBottom" fmla="*/ 2085480 h 21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50"/>
          <p:cNvSpPr/>
          <p:nvPr/>
        </p:nvSpPr>
        <p:spPr>
          <a:xfrm>
            <a:off x="1919160" y="177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比和除法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0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0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2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250" autoRev="1" fill="hold"/>
                                        <p:tgtEl>
                                          <p:spTgt spid="28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8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0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1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2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3" name="Text Box 3"/>
          <p:cNvSpPr/>
          <p:nvPr/>
        </p:nvSpPr>
        <p:spPr>
          <a:xfrm>
            <a:off x="611280" y="112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4" name="对象 16404" descr=""/>
          <p:cNvPicPr/>
          <p:nvPr/>
        </p:nvPicPr>
        <p:blipFill>
          <a:blip r:embed="rId2"/>
          <a:stretch/>
        </p:blipFill>
        <p:spPr>
          <a:xfrm>
            <a:off x="1063800" y="2133720"/>
            <a:ext cx="1347480" cy="963360"/>
          </a:xfrm>
          <a:prstGeom prst="rect">
            <a:avLst/>
          </a:prstGeom>
          <a:ln w="0">
            <a:noFill/>
          </a:ln>
        </p:spPr>
      </p:pic>
      <p:pic>
        <p:nvPicPr>
          <p:cNvPr id="2925" name="对象 16405" descr=""/>
          <p:cNvPicPr/>
          <p:nvPr/>
        </p:nvPicPr>
        <p:blipFill>
          <a:blip r:embed="rId3"/>
          <a:stretch/>
        </p:blipFill>
        <p:spPr>
          <a:xfrm>
            <a:off x="3511440" y="2057400"/>
            <a:ext cx="1190880" cy="1049400"/>
          </a:xfrm>
          <a:prstGeom prst="rect">
            <a:avLst/>
          </a:prstGeom>
          <a:ln w="0">
            <a:noFill/>
          </a:ln>
        </p:spPr>
      </p:pic>
      <p:pic>
        <p:nvPicPr>
          <p:cNvPr id="2926" name="对象 16406" descr=""/>
          <p:cNvPicPr/>
          <p:nvPr/>
        </p:nvPicPr>
        <p:blipFill>
          <a:blip r:embed="rId4"/>
          <a:stretch/>
        </p:blipFill>
        <p:spPr>
          <a:xfrm>
            <a:off x="5783400" y="2133720"/>
            <a:ext cx="1236600" cy="963360"/>
          </a:xfrm>
          <a:prstGeom prst="rect">
            <a:avLst/>
          </a:prstGeom>
          <a:ln w="0">
            <a:noFill/>
          </a:ln>
        </p:spPr>
      </p:pic>
      <p:pic>
        <p:nvPicPr>
          <p:cNvPr id="2927" name="对象 16407" descr=""/>
          <p:cNvPicPr/>
          <p:nvPr/>
        </p:nvPicPr>
        <p:blipFill>
          <a:blip r:embed="rId5"/>
          <a:stretch/>
        </p:blipFill>
        <p:spPr>
          <a:xfrm>
            <a:off x="1158840" y="342900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2928" name="对象 16408" descr=""/>
          <p:cNvPicPr/>
          <p:nvPr/>
        </p:nvPicPr>
        <p:blipFill>
          <a:blip r:embed="rId6"/>
          <a:stretch/>
        </p:blipFill>
        <p:spPr>
          <a:xfrm>
            <a:off x="3471840" y="3490920"/>
            <a:ext cx="1171440" cy="961920"/>
          </a:xfrm>
          <a:prstGeom prst="rect">
            <a:avLst/>
          </a:prstGeom>
          <a:ln w="0">
            <a:noFill/>
          </a:ln>
        </p:spPr>
      </p:pic>
      <p:pic>
        <p:nvPicPr>
          <p:cNvPr id="2929" name="对象 16409" descr=""/>
          <p:cNvPicPr/>
          <p:nvPr/>
        </p:nvPicPr>
        <p:blipFill>
          <a:blip r:embed="rId7"/>
          <a:stretch/>
        </p:blipFill>
        <p:spPr>
          <a:xfrm>
            <a:off x="5751360" y="3500280"/>
            <a:ext cx="1495440" cy="944640"/>
          </a:xfrm>
          <a:prstGeom prst="rect">
            <a:avLst/>
          </a:prstGeom>
          <a:ln w="0">
            <a:noFill/>
          </a:ln>
        </p:spPr>
      </p:pic>
      <p:pic>
        <p:nvPicPr>
          <p:cNvPr id="2930" name="对象 16410" descr=""/>
          <p:cNvPicPr/>
          <p:nvPr/>
        </p:nvPicPr>
        <p:blipFill>
          <a:blip r:embed="rId8"/>
          <a:stretch/>
        </p:blipFill>
        <p:spPr>
          <a:xfrm>
            <a:off x="1123920" y="4869000"/>
            <a:ext cx="1422360" cy="1025280"/>
          </a:xfrm>
          <a:prstGeom prst="rect">
            <a:avLst/>
          </a:prstGeom>
          <a:ln w="0">
            <a:noFill/>
          </a:ln>
        </p:spPr>
      </p:pic>
      <p:pic>
        <p:nvPicPr>
          <p:cNvPr id="2931" name="对象 16411" descr=""/>
          <p:cNvPicPr/>
          <p:nvPr/>
        </p:nvPicPr>
        <p:blipFill>
          <a:blip r:embed="rId9"/>
          <a:stretch/>
        </p:blipFill>
        <p:spPr>
          <a:xfrm>
            <a:off x="3460680" y="4941720"/>
            <a:ext cx="1339920" cy="944640"/>
          </a:xfrm>
          <a:prstGeom prst="rect">
            <a:avLst/>
          </a:prstGeom>
          <a:ln w="0">
            <a:noFill/>
          </a:ln>
        </p:spPr>
      </p:pic>
      <p:pic>
        <p:nvPicPr>
          <p:cNvPr id="2932" name="对象 16412" descr=""/>
          <p:cNvPicPr/>
          <p:nvPr/>
        </p:nvPicPr>
        <p:blipFill>
          <a:blip r:embed="rId10">
            <a:alphaModFix amt="60000"/>
          </a:blip>
          <a:stretch/>
        </p:blipFill>
        <p:spPr>
          <a:xfrm>
            <a:off x="2411280" y="2421000"/>
            <a:ext cx="406440" cy="407880"/>
          </a:xfrm>
          <a:prstGeom prst="rect">
            <a:avLst/>
          </a:prstGeom>
          <a:ln w="0">
            <a:noFill/>
          </a:ln>
        </p:spPr>
      </p:pic>
      <p:pic>
        <p:nvPicPr>
          <p:cNvPr id="2933" name="对象 16413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4643280" y="213372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934" name="对象 16414" descr=""/>
          <p:cNvPicPr/>
          <p:nvPr/>
        </p:nvPicPr>
        <p:blipFill>
          <a:blip r:embed="rId12">
            <a:alphaModFix amt="85000"/>
          </a:blip>
          <a:stretch/>
        </p:blipFill>
        <p:spPr>
          <a:xfrm>
            <a:off x="2484360" y="5157720"/>
            <a:ext cx="466920" cy="407880"/>
          </a:xfrm>
          <a:prstGeom prst="rect">
            <a:avLst/>
          </a:prstGeom>
          <a:ln w="0">
            <a:noFill/>
          </a:ln>
        </p:spPr>
      </p:pic>
      <p:pic>
        <p:nvPicPr>
          <p:cNvPr id="2935" name="对象 16415" descr=""/>
          <p:cNvPicPr/>
          <p:nvPr/>
        </p:nvPicPr>
        <p:blipFill>
          <a:blip r:embed="rId13">
            <a:alphaModFix amt="85000"/>
          </a:blip>
          <a:stretch/>
        </p:blipFill>
        <p:spPr>
          <a:xfrm>
            <a:off x="7020000" y="2349360"/>
            <a:ext cx="263520" cy="408240"/>
          </a:xfrm>
          <a:prstGeom prst="rect">
            <a:avLst/>
          </a:prstGeom>
          <a:ln w="0">
            <a:noFill/>
          </a:ln>
        </p:spPr>
      </p:pic>
      <p:pic>
        <p:nvPicPr>
          <p:cNvPr id="2936" name="对象 16416" descr=""/>
          <p:cNvPicPr/>
          <p:nvPr/>
        </p:nvPicPr>
        <p:blipFill>
          <a:blip r:embed="rId14"/>
          <a:stretch/>
        </p:blipFill>
        <p:spPr>
          <a:xfrm>
            <a:off x="2411280" y="3502080"/>
            <a:ext cx="351000" cy="904680"/>
          </a:xfrm>
          <a:prstGeom prst="rect">
            <a:avLst/>
          </a:prstGeom>
          <a:ln w="0">
            <a:noFill/>
          </a:ln>
        </p:spPr>
      </p:pic>
      <p:pic>
        <p:nvPicPr>
          <p:cNvPr id="2937" name="对象 16417" descr=""/>
          <p:cNvPicPr/>
          <p:nvPr/>
        </p:nvPicPr>
        <p:blipFill>
          <a:blip r:embed="rId15">
            <a:alphaModFix amt="60000"/>
          </a:blip>
          <a:stretch/>
        </p:blipFill>
        <p:spPr>
          <a:xfrm>
            <a:off x="4643280" y="350208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938" name="对象 16418" descr=""/>
          <p:cNvPicPr/>
          <p:nvPr/>
        </p:nvPicPr>
        <p:blipFill>
          <a:blip r:embed="rId16">
            <a:alphaModFix amt="80000"/>
          </a:blip>
          <a:stretch/>
        </p:blipFill>
        <p:spPr>
          <a:xfrm>
            <a:off x="7236000" y="3502080"/>
            <a:ext cx="350640" cy="904680"/>
          </a:xfrm>
          <a:prstGeom prst="rect">
            <a:avLst/>
          </a:prstGeom>
          <a:ln w="0">
            <a:noFill/>
          </a:ln>
        </p:spPr>
      </p:pic>
      <p:pic>
        <p:nvPicPr>
          <p:cNvPr id="2939" name="对象 16419" descr=""/>
          <p:cNvPicPr/>
          <p:nvPr/>
        </p:nvPicPr>
        <p:blipFill>
          <a:blip r:embed="rId17"/>
          <a:stretch/>
        </p:blipFill>
        <p:spPr>
          <a:xfrm>
            <a:off x="4859280" y="4941720"/>
            <a:ext cx="351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4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3" name="Text Box 3"/>
          <p:cNvSpPr/>
          <p:nvPr/>
        </p:nvSpPr>
        <p:spPr>
          <a:xfrm>
            <a:off x="2072160" y="3736800"/>
            <a:ext cx="254376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隶书"/>
              </a:rPr>
              <a:t>×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×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AutoShape 4"/>
          <p:cNvSpPr/>
          <p:nvPr/>
        </p:nvSpPr>
        <p:spPr>
          <a:xfrm>
            <a:off x="3801960" y="3139920"/>
            <a:ext cx="287280" cy="648000"/>
          </a:xfrm>
          <a:prstGeom prst="downArrow">
            <a:avLst>
              <a:gd name="adj1" fmla="val 50000"/>
              <a:gd name="adj2" fmla="val 563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"/>
          <p:cNvSpPr/>
          <p:nvPr/>
        </p:nvSpPr>
        <p:spPr>
          <a:xfrm>
            <a:off x="3225960" y="2421000"/>
            <a:ext cx="1584000" cy="7189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6"/>
          <p:cNvSpPr/>
          <p:nvPr/>
        </p:nvSpPr>
        <p:spPr>
          <a:xfrm>
            <a:off x="5241960" y="2421000"/>
            <a:ext cx="1440000" cy="7189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Rectangle 12"/>
          <p:cNvSpPr/>
          <p:nvPr/>
        </p:nvSpPr>
        <p:spPr>
          <a:xfrm>
            <a:off x="1637280" y="2492280"/>
            <a:ext cx="52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5 = 16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20 = 40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Text Box 13"/>
          <p:cNvSpPr/>
          <p:nvPr/>
        </p:nvSpPr>
        <p:spPr>
          <a:xfrm>
            <a:off x="5023800" y="3763800"/>
            <a:ext cx="288216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隶书"/>
              </a:rPr>
              <a:t>×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×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AutoShape 14"/>
          <p:cNvSpPr/>
          <p:nvPr/>
        </p:nvSpPr>
        <p:spPr>
          <a:xfrm>
            <a:off x="5889600" y="3133800"/>
            <a:ext cx="287280" cy="647640"/>
          </a:xfrm>
          <a:prstGeom prst="downArrow">
            <a:avLst>
              <a:gd name="adj1" fmla="val 50000"/>
              <a:gd name="adj2" fmla="val 5634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Text Box 11"/>
          <p:cNvSpPr/>
          <p:nvPr/>
        </p:nvSpPr>
        <p:spPr>
          <a:xfrm>
            <a:off x="1619280" y="1557360"/>
            <a:ext cx="26654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比的基本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Text Box 10"/>
          <p:cNvSpPr/>
          <p:nvPr/>
        </p:nvSpPr>
        <p:spPr>
          <a:xfrm>
            <a:off x="1476360" y="4797360"/>
            <a:ext cx="6165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的前项和后项同时乘或除以相同的数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），比值不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6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6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6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Rectangle 3"/>
          <p:cNvSpPr/>
          <p:nvPr/>
        </p:nvSpPr>
        <p:spPr>
          <a:xfrm>
            <a:off x="611280" y="20232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利用商不变性质，我们可以进行除法的简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根据分数的基本性质，我们可以把分数化成最简分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4"/>
          <p:cNvSpPr/>
          <p:nvPr/>
        </p:nvSpPr>
        <p:spPr>
          <a:xfrm>
            <a:off x="1973160" y="427500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2" name="Group 5"/>
          <p:cNvGrpSpPr/>
          <p:nvPr/>
        </p:nvGrpSpPr>
        <p:grpSpPr>
          <a:xfrm>
            <a:off x="3771720" y="4222800"/>
            <a:ext cx="2001600" cy="512280"/>
            <a:chOff x="3771720" y="4222800"/>
            <a:chExt cx="2001600" cy="512280"/>
          </a:xfrm>
        </p:grpSpPr>
        <p:sp>
          <p:nvSpPr>
            <p:cNvPr id="2983" name="Rectangle 6"/>
            <p:cNvSpPr/>
            <p:nvPr/>
          </p:nvSpPr>
          <p:spPr>
            <a:xfrm>
              <a:off x="3771720" y="4222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Text Box 7"/>
            <p:cNvSpPr/>
            <p:nvPr/>
          </p:nvSpPr>
          <p:spPr>
            <a:xfrm>
              <a:off x="4925160" y="42753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5" name="Group 8"/>
          <p:cNvGrpSpPr/>
          <p:nvPr/>
        </p:nvGrpSpPr>
        <p:grpSpPr>
          <a:xfrm>
            <a:off x="1941120" y="4924440"/>
            <a:ext cx="863640" cy="794520"/>
            <a:chOff x="1941120" y="4924440"/>
            <a:chExt cx="863640" cy="794520"/>
          </a:xfrm>
        </p:grpSpPr>
        <p:sp>
          <p:nvSpPr>
            <p:cNvPr id="2986" name="AutoShape 9"/>
            <p:cNvSpPr/>
            <p:nvPr/>
          </p:nvSpPr>
          <p:spPr>
            <a:xfrm rot="5400000">
              <a:off x="2300760" y="4564800"/>
              <a:ext cx="144360" cy="86364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36000 h 863640"/>
                <a:gd name="textAreaBottom" fmla="*/ 828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10"/>
            <p:cNvSpPr/>
            <p:nvPr/>
          </p:nvSpPr>
          <p:spPr>
            <a:xfrm>
              <a:off x="2376360" y="5067360"/>
              <a:ext cx="0" cy="217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Text Box 11"/>
            <p:cNvSpPr/>
            <p:nvPr/>
          </p:nvSpPr>
          <p:spPr>
            <a:xfrm>
              <a:off x="2137320" y="525924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前项、后项同时除以</a:t>
              </a:r>
              <a:r>
                <a:rPr b="1" lang="en-US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9" name="Rectangle 12"/>
          <p:cNvSpPr/>
          <p:nvPr/>
        </p:nvSpPr>
        <p:spPr>
          <a:xfrm>
            <a:off x="539640" y="29372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宋体"/>
              </a:rPr>
              <a:t>应用比的基本性质，我们可以把比化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最简单的整数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3"/>
          <p:cNvSpPr/>
          <p:nvPr/>
        </p:nvSpPr>
        <p:spPr>
          <a:xfrm>
            <a:off x="4932360" y="4276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Text Box 14"/>
          <p:cNvSpPr/>
          <p:nvPr/>
        </p:nvSpPr>
        <p:spPr>
          <a:xfrm>
            <a:off x="5435640" y="4276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2" name="Group 15"/>
          <p:cNvGrpSpPr/>
          <p:nvPr/>
        </p:nvGrpSpPr>
        <p:grpSpPr>
          <a:xfrm>
            <a:off x="4282920" y="4924440"/>
            <a:ext cx="2881080" cy="794520"/>
            <a:chOff x="4282920" y="4924440"/>
            <a:chExt cx="2881080" cy="794520"/>
          </a:xfrm>
        </p:grpSpPr>
        <p:sp>
          <p:nvSpPr>
            <p:cNvPr id="2993" name="AutoShape 16"/>
            <p:cNvSpPr/>
            <p:nvPr/>
          </p:nvSpPr>
          <p:spPr>
            <a:xfrm rot="5400000">
              <a:off x="5523480" y="4503240"/>
              <a:ext cx="144360" cy="98676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41040 h 986760"/>
                <a:gd name="textAreaBottom" fmla="*/ 945720 h 9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Line 17"/>
            <p:cNvSpPr/>
            <p:nvPr/>
          </p:nvSpPr>
          <p:spPr>
            <a:xfrm>
              <a:off x="5599800" y="5067360"/>
              <a:ext cx="0" cy="217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Text Box 18"/>
            <p:cNvSpPr/>
            <p:nvPr/>
          </p:nvSpPr>
          <p:spPr>
            <a:xfrm>
              <a:off x="4282920" y="5259240"/>
              <a:ext cx="288108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前、后项必须是整数，而且互质</a:t>
              </a:r>
              <a:r>
                <a:rPr b="1" lang="en-US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19"/>
          <p:cNvSpPr/>
          <p:nvPr/>
        </p:nvSpPr>
        <p:spPr>
          <a:xfrm flipV="1">
            <a:off x="5724360" y="3425400"/>
            <a:ext cx="1800360" cy="8650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9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9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5" dur="20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0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10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8" dur="10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0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1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1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Rectangle 3"/>
          <p:cNvSpPr/>
          <p:nvPr/>
        </p:nvSpPr>
        <p:spPr>
          <a:xfrm>
            <a:off x="1505160" y="2202840"/>
            <a:ext cx="60649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班有男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，女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男生是女生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女生是男生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男生比女生少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女生比男生多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4"/>
          <p:cNvSpPr/>
          <p:nvPr/>
        </p:nvSpPr>
        <p:spPr>
          <a:xfrm>
            <a:off x="5967360" y="284004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5÷20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5"/>
          <p:cNvSpPr/>
          <p:nvPr/>
        </p:nvSpPr>
        <p:spPr>
          <a:xfrm>
            <a:off x="5967360" y="343044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÷15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6"/>
          <p:cNvSpPr/>
          <p:nvPr/>
        </p:nvSpPr>
        <p:spPr>
          <a:xfrm>
            <a:off x="5598720" y="4064040"/>
            <a:ext cx="25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-1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÷20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7"/>
          <p:cNvSpPr/>
          <p:nvPr/>
        </p:nvSpPr>
        <p:spPr>
          <a:xfrm>
            <a:off x="5598720" y="4654440"/>
            <a:ext cx="25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-1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÷15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2"/>
          <p:cNvSpPr/>
          <p:nvPr/>
        </p:nvSpPr>
        <p:spPr>
          <a:xfrm>
            <a:off x="684360" y="1413000"/>
            <a:ext cx="51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应用分数乘除法解决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2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9" name="Text Box 3"/>
          <p:cNvSpPr/>
          <p:nvPr/>
        </p:nvSpPr>
        <p:spPr>
          <a:xfrm>
            <a:off x="2309760" y="15573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看谁先找到题中的单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7"/>
          <p:cNvSpPr/>
          <p:nvPr/>
        </p:nvSpPr>
        <p:spPr>
          <a:xfrm>
            <a:off x="922320" y="220788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小牛头数是大牛的    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1" name="Group 8"/>
          <p:cNvGrpSpPr/>
          <p:nvPr/>
        </p:nvGrpSpPr>
        <p:grpSpPr>
          <a:xfrm>
            <a:off x="5651640" y="2060640"/>
            <a:ext cx="431640" cy="894960"/>
            <a:chOff x="5651640" y="2060640"/>
            <a:chExt cx="431640" cy="894960"/>
          </a:xfrm>
        </p:grpSpPr>
        <p:sp>
          <p:nvSpPr>
            <p:cNvPr id="3042" name="Line 9"/>
            <p:cNvSpPr/>
            <p:nvPr/>
          </p:nvSpPr>
          <p:spPr>
            <a:xfrm>
              <a:off x="5651640" y="250632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Text Box 10"/>
            <p:cNvSpPr/>
            <p:nvPr/>
          </p:nvSpPr>
          <p:spPr>
            <a:xfrm>
              <a:off x="5675760" y="2060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Text Box 11"/>
            <p:cNvSpPr/>
            <p:nvPr/>
          </p:nvSpPr>
          <p:spPr>
            <a:xfrm>
              <a:off x="5679000" y="2435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5" name="Group 23"/>
          <p:cNvGrpSpPr/>
          <p:nvPr/>
        </p:nvGrpSpPr>
        <p:grpSpPr>
          <a:xfrm>
            <a:off x="900000" y="3975120"/>
            <a:ext cx="7032600" cy="895320"/>
            <a:chOff x="900000" y="3975120"/>
            <a:chExt cx="7032600" cy="895320"/>
          </a:xfrm>
        </p:grpSpPr>
        <p:sp>
          <p:nvSpPr>
            <p:cNvPr id="3046" name="Rectangle 25"/>
            <p:cNvSpPr/>
            <p:nvPr/>
          </p:nvSpPr>
          <p:spPr>
            <a:xfrm>
              <a:off x="900000" y="4101840"/>
              <a:ext cx="703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女生人数的     相当于男生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7" name="Group 26"/>
            <p:cNvGrpSpPr/>
            <p:nvPr/>
          </p:nvGrpSpPr>
          <p:grpSpPr>
            <a:xfrm>
              <a:off x="4476600" y="3975120"/>
              <a:ext cx="431640" cy="895320"/>
              <a:chOff x="4476600" y="3975120"/>
              <a:chExt cx="431640" cy="895320"/>
            </a:xfrm>
          </p:grpSpPr>
          <p:sp>
            <p:nvSpPr>
              <p:cNvPr id="3048" name="Line 27"/>
              <p:cNvSpPr/>
              <p:nvPr/>
            </p:nvSpPr>
            <p:spPr>
              <a:xfrm>
                <a:off x="4476600" y="442116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Text Box 28"/>
              <p:cNvSpPr/>
              <p:nvPr/>
            </p:nvSpPr>
            <p:spPr>
              <a:xfrm>
                <a:off x="4500720" y="397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Text Box 29"/>
              <p:cNvSpPr/>
              <p:nvPr/>
            </p:nvSpPr>
            <p:spPr>
              <a:xfrm>
                <a:off x="4503960" y="4349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1" name="Group 14"/>
          <p:cNvGrpSpPr/>
          <p:nvPr/>
        </p:nvGrpSpPr>
        <p:grpSpPr>
          <a:xfrm>
            <a:off x="900000" y="2967120"/>
            <a:ext cx="6458040" cy="894960"/>
            <a:chOff x="900000" y="2967120"/>
            <a:chExt cx="6458040" cy="894960"/>
          </a:xfrm>
        </p:grpSpPr>
        <p:sp>
          <p:nvSpPr>
            <p:cNvPr id="3052" name="Rectangle 16"/>
            <p:cNvSpPr/>
            <p:nvPr/>
          </p:nvSpPr>
          <p:spPr>
            <a:xfrm>
              <a:off x="900000" y="3123360"/>
              <a:ext cx="645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计划产量是实际的    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3" name="Group 17"/>
            <p:cNvGrpSpPr/>
            <p:nvPr/>
          </p:nvGrpSpPr>
          <p:grpSpPr>
            <a:xfrm>
              <a:off x="5558040" y="2967120"/>
              <a:ext cx="577080" cy="894960"/>
              <a:chOff x="5558040" y="2967120"/>
              <a:chExt cx="577080" cy="894960"/>
            </a:xfrm>
          </p:grpSpPr>
          <p:sp>
            <p:nvSpPr>
              <p:cNvPr id="3054" name="Line 18"/>
              <p:cNvSpPr/>
              <p:nvPr/>
            </p:nvSpPr>
            <p:spPr>
              <a:xfrm>
                <a:off x="5628960" y="341280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Text Box 19"/>
              <p:cNvSpPr/>
              <p:nvPr/>
            </p:nvSpPr>
            <p:spPr>
              <a:xfrm>
                <a:off x="5653440" y="2967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Text Box 20"/>
              <p:cNvSpPr/>
              <p:nvPr/>
            </p:nvSpPr>
            <p:spPr>
              <a:xfrm>
                <a:off x="5558040" y="33415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7" name="Group 32"/>
          <p:cNvGrpSpPr/>
          <p:nvPr/>
        </p:nvGrpSpPr>
        <p:grpSpPr>
          <a:xfrm>
            <a:off x="900000" y="4838760"/>
            <a:ext cx="6458040" cy="895320"/>
            <a:chOff x="900000" y="4838760"/>
            <a:chExt cx="6458040" cy="895320"/>
          </a:xfrm>
        </p:grpSpPr>
        <p:sp>
          <p:nvSpPr>
            <p:cNvPr id="3058" name="Rectangle 34"/>
            <p:cNvSpPr/>
            <p:nvPr/>
          </p:nvSpPr>
          <p:spPr>
            <a:xfrm>
              <a:off x="900000" y="4965480"/>
              <a:ext cx="645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鹅的只数是鸭的    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9" name="Group 35"/>
            <p:cNvGrpSpPr/>
            <p:nvPr/>
          </p:nvGrpSpPr>
          <p:grpSpPr>
            <a:xfrm>
              <a:off x="5268960" y="4838760"/>
              <a:ext cx="431640" cy="895320"/>
              <a:chOff x="5268960" y="4838760"/>
              <a:chExt cx="431640" cy="895320"/>
            </a:xfrm>
          </p:grpSpPr>
          <p:sp>
            <p:nvSpPr>
              <p:cNvPr id="3060" name="Line 36"/>
              <p:cNvSpPr/>
              <p:nvPr/>
            </p:nvSpPr>
            <p:spPr>
              <a:xfrm>
                <a:off x="5268960" y="52848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Text Box 37"/>
              <p:cNvSpPr/>
              <p:nvPr/>
            </p:nvSpPr>
            <p:spPr>
              <a:xfrm>
                <a:off x="5293080" y="4838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Text Box 38"/>
              <p:cNvSpPr/>
              <p:nvPr/>
            </p:nvSpPr>
            <p:spPr>
              <a:xfrm>
                <a:off x="5296320" y="5213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3" name="矩形 58"/>
          <p:cNvSpPr/>
          <p:nvPr/>
        </p:nvSpPr>
        <p:spPr>
          <a:xfrm>
            <a:off x="4427640" y="2205000"/>
            <a:ext cx="86508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矩形 59"/>
          <p:cNvSpPr/>
          <p:nvPr/>
        </p:nvSpPr>
        <p:spPr>
          <a:xfrm>
            <a:off x="4356000" y="3141720"/>
            <a:ext cx="86364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矩形 60"/>
          <p:cNvSpPr/>
          <p:nvPr/>
        </p:nvSpPr>
        <p:spPr>
          <a:xfrm>
            <a:off x="2340000" y="4076640"/>
            <a:ext cx="165564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矩形 61"/>
          <p:cNvSpPr/>
          <p:nvPr/>
        </p:nvSpPr>
        <p:spPr>
          <a:xfrm>
            <a:off x="4356000" y="4941720"/>
            <a:ext cx="503280" cy="64800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6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6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5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5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7" dur="5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2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7" dur="5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7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8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8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0" name="Text Box 5"/>
          <p:cNvSpPr/>
          <p:nvPr/>
        </p:nvSpPr>
        <p:spPr>
          <a:xfrm>
            <a:off x="250920" y="1916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，鹅的只数是鸭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6"/>
          <p:cNvSpPr/>
          <p:nvPr/>
        </p:nvSpPr>
        <p:spPr>
          <a:xfrm>
            <a:off x="241200" y="304956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的只数是鸭的     。池塘里有多少只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2" name="Group 7"/>
          <p:cNvGrpSpPr/>
          <p:nvPr/>
        </p:nvGrpSpPr>
        <p:grpSpPr>
          <a:xfrm>
            <a:off x="6443640" y="2976480"/>
            <a:ext cx="407520" cy="703080"/>
            <a:chOff x="6443640" y="2976480"/>
            <a:chExt cx="407520" cy="703080"/>
          </a:xfrm>
        </p:grpSpPr>
        <p:sp>
          <p:nvSpPr>
            <p:cNvPr id="3093" name="Line 8"/>
            <p:cNvSpPr/>
            <p:nvPr/>
          </p:nvSpPr>
          <p:spPr>
            <a:xfrm>
              <a:off x="6443640" y="3340440"/>
              <a:ext cx="40752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Text Box 9"/>
            <p:cNvSpPr/>
            <p:nvPr/>
          </p:nvSpPr>
          <p:spPr>
            <a:xfrm>
              <a:off x="6460560" y="2976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Text Box 10"/>
            <p:cNvSpPr/>
            <p:nvPr/>
          </p:nvSpPr>
          <p:spPr>
            <a:xfrm>
              <a:off x="6462360" y="3280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1"/>
          <p:cNvGrpSpPr/>
          <p:nvPr/>
        </p:nvGrpSpPr>
        <p:grpSpPr>
          <a:xfrm>
            <a:off x="6659640" y="4221000"/>
            <a:ext cx="415440" cy="719640"/>
            <a:chOff x="6659640" y="4221000"/>
            <a:chExt cx="415440" cy="719640"/>
          </a:xfrm>
        </p:grpSpPr>
        <p:sp>
          <p:nvSpPr>
            <p:cNvPr id="3097" name="Line 12"/>
            <p:cNvSpPr/>
            <p:nvPr/>
          </p:nvSpPr>
          <p:spPr>
            <a:xfrm>
              <a:off x="6659640" y="4605120"/>
              <a:ext cx="4154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Text Box 13"/>
            <p:cNvSpPr/>
            <p:nvPr/>
          </p:nvSpPr>
          <p:spPr>
            <a:xfrm>
              <a:off x="6680880" y="422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Text Box 14"/>
            <p:cNvSpPr/>
            <p:nvPr/>
          </p:nvSpPr>
          <p:spPr>
            <a:xfrm>
              <a:off x="6681960" y="454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0" name="Text Box 15"/>
          <p:cNvSpPr/>
          <p:nvPr/>
        </p:nvSpPr>
        <p:spPr>
          <a:xfrm>
            <a:off x="324000" y="429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好是鸭的只数的     。池塘里有多少只鸭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矩形 35"/>
          <p:cNvSpPr/>
          <p:nvPr/>
        </p:nvSpPr>
        <p:spPr>
          <a:xfrm>
            <a:off x="1403280" y="5445000"/>
            <a:ext cx="525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先分析数量关系，再解答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0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11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11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0" name="Text Box 3"/>
          <p:cNvSpPr/>
          <p:nvPr/>
        </p:nvSpPr>
        <p:spPr>
          <a:xfrm>
            <a:off x="324000" y="1917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，鹅的只数是鸭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4"/>
          <p:cNvSpPr/>
          <p:nvPr/>
        </p:nvSpPr>
        <p:spPr>
          <a:xfrm>
            <a:off x="1531440" y="294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5"/>
          <p:cNvSpPr/>
          <p:nvPr/>
        </p:nvSpPr>
        <p:spPr>
          <a:xfrm>
            <a:off x="1547280" y="3632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6"/>
          <p:cNvSpPr/>
          <p:nvPr/>
        </p:nvSpPr>
        <p:spPr>
          <a:xfrm>
            <a:off x="3780000" y="314316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"/>
          <p:cNvSpPr/>
          <p:nvPr/>
        </p:nvSpPr>
        <p:spPr>
          <a:xfrm>
            <a:off x="5219640" y="314316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5" name="Group 8"/>
          <p:cNvGrpSpPr/>
          <p:nvPr/>
        </p:nvGrpSpPr>
        <p:grpSpPr>
          <a:xfrm>
            <a:off x="2340000" y="3143160"/>
            <a:ext cx="4319640" cy="142920"/>
            <a:chOff x="2340000" y="3143160"/>
            <a:chExt cx="4319640" cy="142920"/>
          </a:xfrm>
        </p:grpSpPr>
        <p:sp>
          <p:nvSpPr>
            <p:cNvPr id="3126" name="Line 9"/>
            <p:cNvSpPr/>
            <p:nvPr/>
          </p:nvSpPr>
          <p:spPr>
            <a:xfrm>
              <a:off x="2340000" y="3286080"/>
              <a:ext cx="431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Line 10"/>
            <p:cNvSpPr/>
            <p:nvPr/>
          </p:nvSpPr>
          <p:spPr>
            <a:xfrm>
              <a:off x="2340000" y="31431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Line 11"/>
            <p:cNvSpPr/>
            <p:nvPr/>
          </p:nvSpPr>
          <p:spPr>
            <a:xfrm>
              <a:off x="6659640" y="31431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Group 12"/>
          <p:cNvGrpSpPr/>
          <p:nvPr/>
        </p:nvGrpSpPr>
        <p:grpSpPr>
          <a:xfrm>
            <a:off x="2340000" y="3790800"/>
            <a:ext cx="1440000" cy="142920"/>
            <a:chOff x="2340000" y="3790800"/>
            <a:chExt cx="1440000" cy="142920"/>
          </a:xfrm>
        </p:grpSpPr>
        <p:sp>
          <p:nvSpPr>
            <p:cNvPr id="3130" name="Line 13"/>
            <p:cNvSpPr/>
            <p:nvPr/>
          </p:nvSpPr>
          <p:spPr>
            <a:xfrm>
              <a:off x="2340000" y="393372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14"/>
            <p:cNvSpPr/>
            <p:nvPr/>
          </p:nvSpPr>
          <p:spPr>
            <a:xfrm>
              <a:off x="2340000" y="37908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15"/>
            <p:cNvSpPr/>
            <p:nvPr/>
          </p:nvSpPr>
          <p:spPr>
            <a:xfrm>
              <a:off x="3780000" y="37908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AutoShape 16"/>
          <p:cNvSpPr/>
          <p:nvPr/>
        </p:nvSpPr>
        <p:spPr>
          <a:xfrm rot="16200000">
            <a:off x="4427640" y="1268280"/>
            <a:ext cx="142560" cy="4321080"/>
          </a:xfrm>
          <a:custGeom>
            <a:avLst/>
            <a:gdLst>
              <a:gd name="textAreaLeft" fmla="*/ 91080 w 142560"/>
              <a:gd name="textAreaRight" fmla="*/ 142920 w 142560"/>
              <a:gd name="textAreaTop" fmla="*/ 112320 h 4321080"/>
              <a:gd name="textAreaBottom" fmla="*/ 420876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AutoShape 17"/>
          <p:cNvSpPr/>
          <p:nvPr/>
        </p:nvSpPr>
        <p:spPr>
          <a:xfrm rot="16200000">
            <a:off x="2987640" y="33584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18"/>
          <p:cNvSpPr/>
          <p:nvPr/>
        </p:nvSpPr>
        <p:spPr>
          <a:xfrm>
            <a:off x="3780000" y="3214800"/>
            <a:ext cx="0" cy="72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9"/>
          <p:cNvSpPr/>
          <p:nvPr/>
        </p:nvSpPr>
        <p:spPr>
          <a:xfrm>
            <a:off x="4097880" y="34304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 Box 20"/>
          <p:cNvSpPr/>
          <p:nvPr/>
        </p:nvSpPr>
        <p:spPr>
          <a:xfrm>
            <a:off x="2787840" y="40528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8" name="Group 21"/>
          <p:cNvGrpSpPr/>
          <p:nvPr/>
        </p:nvGrpSpPr>
        <p:grpSpPr>
          <a:xfrm>
            <a:off x="2340000" y="3143160"/>
            <a:ext cx="1440000" cy="142920"/>
            <a:chOff x="2340000" y="3143160"/>
            <a:chExt cx="1440000" cy="142920"/>
          </a:xfrm>
        </p:grpSpPr>
        <p:sp>
          <p:nvSpPr>
            <p:cNvPr id="3139" name="Line 22"/>
            <p:cNvSpPr/>
            <p:nvPr/>
          </p:nvSpPr>
          <p:spPr>
            <a:xfrm>
              <a:off x="2340000" y="3286080"/>
              <a:ext cx="1440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Line 23"/>
            <p:cNvSpPr/>
            <p:nvPr/>
          </p:nvSpPr>
          <p:spPr>
            <a:xfrm>
              <a:off x="2340000" y="3143160"/>
              <a:ext cx="0" cy="1429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Line 24"/>
            <p:cNvSpPr/>
            <p:nvPr/>
          </p:nvSpPr>
          <p:spPr>
            <a:xfrm>
              <a:off x="3780000" y="3143160"/>
              <a:ext cx="0" cy="1429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2" name="Group 25"/>
          <p:cNvGrpSpPr/>
          <p:nvPr/>
        </p:nvGrpSpPr>
        <p:grpSpPr>
          <a:xfrm>
            <a:off x="6827040" y="1954080"/>
            <a:ext cx="1123920" cy="1037520"/>
            <a:chOff x="6827040" y="1954080"/>
            <a:chExt cx="1123920" cy="1037520"/>
          </a:xfrm>
        </p:grpSpPr>
        <p:sp>
          <p:nvSpPr>
            <p:cNvPr id="3143" name="Oval 26"/>
            <p:cNvSpPr/>
            <p:nvPr/>
          </p:nvSpPr>
          <p:spPr>
            <a:xfrm>
              <a:off x="7164360" y="1954080"/>
              <a:ext cx="57636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Line 27"/>
            <p:cNvSpPr/>
            <p:nvPr/>
          </p:nvSpPr>
          <p:spPr>
            <a:xfrm>
              <a:off x="7405560" y="2387520"/>
              <a:ext cx="0" cy="144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Text Box 28"/>
            <p:cNvSpPr/>
            <p:nvPr/>
          </p:nvSpPr>
          <p:spPr>
            <a:xfrm>
              <a:off x="6827040" y="253188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6" name="Text Box 29"/>
          <p:cNvSpPr/>
          <p:nvPr/>
        </p:nvSpPr>
        <p:spPr>
          <a:xfrm>
            <a:off x="684360" y="4468680"/>
            <a:ext cx="7704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求一个数是另一个数的几分之几（或几倍）是多少，用除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7" name="Group 30"/>
          <p:cNvGrpSpPr/>
          <p:nvPr/>
        </p:nvGrpSpPr>
        <p:grpSpPr>
          <a:xfrm>
            <a:off x="2226600" y="4799160"/>
            <a:ext cx="3865680" cy="1584360"/>
            <a:chOff x="2226600" y="4799160"/>
            <a:chExt cx="3865680" cy="1584360"/>
          </a:xfrm>
        </p:grpSpPr>
        <p:grpSp>
          <p:nvGrpSpPr>
            <p:cNvPr id="3148" name="Group 31"/>
            <p:cNvGrpSpPr/>
            <p:nvPr/>
          </p:nvGrpSpPr>
          <p:grpSpPr>
            <a:xfrm>
              <a:off x="2226600" y="4799160"/>
              <a:ext cx="2122200" cy="895320"/>
              <a:chOff x="2226600" y="4799160"/>
              <a:chExt cx="2122200" cy="895320"/>
            </a:xfrm>
          </p:grpSpPr>
          <p:sp>
            <p:nvSpPr>
              <p:cNvPr id="3149" name="Text Box 32"/>
              <p:cNvSpPr/>
              <p:nvPr/>
            </p:nvSpPr>
            <p:spPr>
              <a:xfrm>
                <a:off x="2226600" y="4981680"/>
                <a:ext cx="21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4÷12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＝   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0" name="Group 33"/>
              <p:cNvGrpSpPr/>
              <p:nvPr/>
            </p:nvGrpSpPr>
            <p:grpSpPr>
              <a:xfrm>
                <a:off x="3714840" y="4799160"/>
                <a:ext cx="380160" cy="895320"/>
                <a:chOff x="3714840" y="4799160"/>
                <a:chExt cx="380160" cy="895320"/>
              </a:xfrm>
            </p:grpSpPr>
            <p:sp>
              <p:nvSpPr>
                <p:cNvPr id="3151" name="Line 34"/>
                <p:cNvSpPr/>
                <p:nvPr/>
              </p:nvSpPr>
              <p:spPr>
                <a:xfrm>
                  <a:off x="3755880" y="524520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Text Box 35"/>
                <p:cNvSpPr/>
                <p:nvPr/>
              </p:nvSpPr>
              <p:spPr>
                <a:xfrm>
                  <a:off x="3714840" y="47991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Text Box 36"/>
                <p:cNvSpPr/>
                <p:nvPr/>
              </p:nvSpPr>
              <p:spPr>
                <a:xfrm>
                  <a:off x="3716280" y="51739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  <a:ea typeface="隶书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4" name="Text Box 37"/>
            <p:cNvSpPr/>
            <p:nvPr/>
          </p:nvSpPr>
          <p:spPr>
            <a:xfrm>
              <a:off x="4041720" y="570888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鹅的只数是鸭的     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5" name="Group 38"/>
            <p:cNvGrpSpPr/>
            <p:nvPr/>
          </p:nvGrpSpPr>
          <p:grpSpPr>
            <a:xfrm>
              <a:off x="5712120" y="5488200"/>
              <a:ext cx="380160" cy="895320"/>
              <a:chOff x="5712120" y="5488200"/>
              <a:chExt cx="380160" cy="895320"/>
            </a:xfrm>
          </p:grpSpPr>
          <p:sp>
            <p:nvSpPr>
              <p:cNvPr id="3156" name="Line 39"/>
              <p:cNvSpPr/>
              <p:nvPr/>
            </p:nvSpPr>
            <p:spPr>
              <a:xfrm>
                <a:off x="5753160" y="593424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Text Box 40"/>
              <p:cNvSpPr/>
              <p:nvPr/>
            </p:nvSpPr>
            <p:spPr>
              <a:xfrm>
                <a:off x="5712120" y="5488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Text Box 41"/>
              <p:cNvSpPr/>
              <p:nvPr/>
            </p:nvSpPr>
            <p:spPr>
              <a:xfrm>
                <a:off x="5713560" y="5862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10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509 L 3.33333E-006 0.00023 E">
                                      <p:cBhvr>
                                        <p:cTn id="1576" dur="20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0.15764 0.00023 E">
                                      <p:cBhvr>
                                        <p:cTn id="1579" dur="5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00023 L 0.3151 7.40741E-007 E">
                                      <p:cBhvr>
                                        <p:cTn id="1582" dur="5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4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Rectangle 2"/>
          <p:cNvSpPr/>
          <p:nvPr/>
        </p:nvSpPr>
        <p:spPr>
          <a:xfrm>
            <a:off x="684360" y="1413000"/>
            <a:ext cx="34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分数乘法的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 Box 7"/>
          <p:cNvSpPr/>
          <p:nvPr/>
        </p:nvSpPr>
        <p:spPr>
          <a:xfrm>
            <a:off x="2556000" y="2637000"/>
            <a:ext cx="6337080" cy="46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分数的分子和整数相乘的积做分子，分母不变，能约分的先约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8"/>
          <p:cNvSpPr/>
          <p:nvPr/>
        </p:nvSpPr>
        <p:spPr>
          <a:xfrm>
            <a:off x="341280" y="2847960"/>
            <a:ext cx="208764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整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9"/>
          <p:cNvSpPr/>
          <p:nvPr/>
        </p:nvSpPr>
        <p:spPr>
          <a:xfrm>
            <a:off x="341280" y="3784680"/>
            <a:ext cx="208764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分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10"/>
          <p:cNvSpPr/>
          <p:nvPr/>
        </p:nvSpPr>
        <p:spPr>
          <a:xfrm>
            <a:off x="324000" y="4840200"/>
            <a:ext cx="208908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小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11"/>
          <p:cNvSpPr/>
          <p:nvPr/>
        </p:nvSpPr>
        <p:spPr>
          <a:xfrm>
            <a:off x="2575080" y="3568680"/>
            <a:ext cx="6335640" cy="46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子相乘做分子，分母相乘做分母。能约分的要先约分再相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12"/>
          <p:cNvSpPr/>
          <p:nvPr/>
        </p:nvSpPr>
        <p:spPr>
          <a:xfrm>
            <a:off x="2556000" y="4503600"/>
            <a:ext cx="6337080" cy="82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数乘小数，可以将小数化成分数，再进行计算；也可以看小数是否可以和分母约分，如果分母可约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就可以直接约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17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17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7" name="Text Box 3"/>
          <p:cNvSpPr/>
          <p:nvPr/>
        </p:nvSpPr>
        <p:spPr>
          <a:xfrm>
            <a:off x="2190240" y="256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4"/>
          <p:cNvSpPr/>
          <p:nvPr/>
        </p:nvSpPr>
        <p:spPr>
          <a:xfrm>
            <a:off x="2206080" y="3246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5"/>
          <p:cNvSpPr/>
          <p:nvPr/>
        </p:nvSpPr>
        <p:spPr>
          <a:xfrm>
            <a:off x="4438800" y="275760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6"/>
          <p:cNvSpPr/>
          <p:nvPr/>
        </p:nvSpPr>
        <p:spPr>
          <a:xfrm>
            <a:off x="5878440" y="275760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1" name="Group 7"/>
          <p:cNvGrpSpPr/>
          <p:nvPr/>
        </p:nvGrpSpPr>
        <p:grpSpPr>
          <a:xfrm>
            <a:off x="2998800" y="2757600"/>
            <a:ext cx="4319640" cy="142920"/>
            <a:chOff x="2998800" y="2757600"/>
            <a:chExt cx="4319640" cy="142920"/>
          </a:xfrm>
        </p:grpSpPr>
        <p:sp>
          <p:nvSpPr>
            <p:cNvPr id="3182" name="Line 8"/>
            <p:cNvSpPr/>
            <p:nvPr/>
          </p:nvSpPr>
          <p:spPr>
            <a:xfrm>
              <a:off x="2998800" y="2900520"/>
              <a:ext cx="431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9"/>
            <p:cNvSpPr/>
            <p:nvPr/>
          </p:nvSpPr>
          <p:spPr>
            <a:xfrm>
              <a:off x="2998800" y="27576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Line 10"/>
            <p:cNvSpPr/>
            <p:nvPr/>
          </p:nvSpPr>
          <p:spPr>
            <a:xfrm>
              <a:off x="7318440" y="27576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5" name="Group 11"/>
          <p:cNvGrpSpPr/>
          <p:nvPr/>
        </p:nvGrpSpPr>
        <p:grpSpPr>
          <a:xfrm>
            <a:off x="2998800" y="3405240"/>
            <a:ext cx="1440000" cy="142920"/>
            <a:chOff x="2998800" y="3405240"/>
            <a:chExt cx="1440000" cy="142920"/>
          </a:xfrm>
        </p:grpSpPr>
        <p:sp>
          <p:nvSpPr>
            <p:cNvPr id="3186" name="Line 12"/>
            <p:cNvSpPr/>
            <p:nvPr/>
          </p:nvSpPr>
          <p:spPr>
            <a:xfrm>
              <a:off x="2998800" y="35481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Line 13"/>
            <p:cNvSpPr/>
            <p:nvPr/>
          </p:nvSpPr>
          <p:spPr>
            <a:xfrm>
              <a:off x="2998800" y="34052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Line 14"/>
            <p:cNvSpPr/>
            <p:nvPr/>
          </p:nvSpPr>
          <p:spPr>
            <a:xfrm>
              <a:off x="4438800" y="34052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9" name="AutoShape 15"/>
          <p:cNvSpPr/>
          <p:nvPr/>
        </p:nvSpPr>
        <p:spPr>
          <a:xfrm rot="16200000">
            <a:off x="5085360" y="883080"/>
            <a:ext cx="142920" cy="43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12320 h 4319280"/>
              <a:gd name="textAreaBottom" fmla="*/ 4206960 h 43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AutoShape 16"/>
          <p:cNvSpPr/>
          <p:nvPr/>
        </p:nvSpPr>
        <p:spPr>
          <a:xfrm rot="16200000">
            <a:off x="3646440" y="297288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17"/>
          <p:cNvSpPr/>
          <p:nvPr/>
        </p:nvSpPr>
        <p:spPr>
          <a:xfrm>
            <a:off x="4438800" y="2900520"/>
            <a:ext cx="0" cy="64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8"/>
          <p:cNvSpPr/>
          <p:nvPr/>
        </p:nvSpPr>
        <p:spPr>
          <a:xfrm>
            <a:off x="4756680" y="30448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9"/>
          <p:cNvSpPr/>
          <p:nvPr/>
        </p:nvSpPr>
        <p:spPr>
          <a:xfrm>
            <a:off x="3476160" y="3648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？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20"/>
          <p:cNvSpPr/>
          <p:nvPr/>
        </p:nvSpPr>
        <p:spPr>
          <a:xfrm>
            <a:off x="1628640" y="4287960"/>
            <a:ext cx="55580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求一个数的几分之几 是多少，用乘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5" name="Group 21"/>
          <p:cNvGrpSpPr/>
          <p:nvPr/>
        </p:nvGrpSpPr>
        <p:grpSpPr>
          <a:xfrm>
            <a:off x="2231280" y="4863960"/>
            <a:ext cx="3341880" cy="1369440"/>
            <a:chOff x="2231280" y="4863960"/>
            <a:chExt cx="3341880" cy="1369440"/>
          </a:xfrm>
        </p:grpSpPr>
        <p:sp>
          <p:nvSpPr>
            <p:cNvPr id="3196" name="Text Box 22"/>
            <p:cNvSpPr/>
            <p:nvPr/>
          </p:nvSpPr>
          <p:spPr>
            <a:xfrm>
              <a:off x="2231280" y="5046480"/>
              <a:ext cx="334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（只）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7" name="Group 23"/>
            <p:cNvGrpSpPr/>
            <p:nvPr/>
          </p:nvGrpSpPr>
          <p:grpSpPr>
            <a:xfrm>
              <a:off x="3057840" y="4863960"/>
              <a:ext cx="380160" cy="895320"/>
              <a:chOff x="3057840" y="4863960"/>
              <a:chExt cx="380160" cy="895320"/>
            </a:xfrm>
          </p:grpSpPr>
          <p:sp>
            <p:nvSpPr>
              <p:cNvPr id="3198" name="Line 24"/>
              <p:cNvSpPr/>
              <p:nvPr/>
            </p:nvSpPr>
            <p:spPr>
              <a:xfrm>
                <a:off x="3098880" y="531000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Text Box 25"/>
              <p:cNvSpPr/>
              <p:nvPr/>
            </p:nvSpPr>
            <p:spPr>
              <a:xfrm>
                <a:off x="3057840" y="4863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Text Box 26"/>
              <p:cNvSpPr/>
              <p:nvPr/>
            </p:nvSpPr>
            <p:spPr>
              <a:xfrm>
                <a:off x="3059280" y="5238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1" name="Text Box 27"/>
            <p:cNvSpPr/>
            <p:nvPr/>
          </p:nvSpPr>
          <p:spPr>
            <a:xfrm>
              <a:off x="3812400" y="5773680"/>
              <a:ext cx="17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池塘里有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鹅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2" name="Group 29"/>
          <p:cNvGrpSpPr/>
          <p:nvPr/>
        </p:nvGrpSpPr>
        <p:grpSpPr>
          <a:xfrm>
            <a:off x="6477120" y="1785960"/>
            <a:ext cx="407520" cy="703080"/>
            <a:chOff x="6477120" y="1785960"/>
            <a:chExt cx="407520" cy="703080"/>
          </a:xfrm>
        </p:grpSpPr>
        <p:sp>
          <p:nvSpPr>
            <p:cNvPr id="3203" name="Line 30"/>
            <p:cNvSpPr/>
            <p:nvPr/>
          </p:nvSpPr>
          <p:spPr>
            <a:xfrm>
              <a:off x="6477120" y="2149920"/>
              <a:ext cx="40752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Text Box 31"/>
            <p:cNvSpPr/>
            <p:nvPr/>
          </p:nvSpPr>
          <p:spPr>
            <a:xfrm>
              <a:off x="6494040" y="1785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Text Box 32"/>
            <p:cNvSpPr/>
            <p:nvPr/>
          </p:nvSpPr>
          <p:spPr>
            <a:xfrm>
              <a:off x="6495840" y="2090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33"/>
          <p:cNvGrpSpPr/>
          <p:nvPr/>
        </p:nvGrpSpPr>
        <p:grpSpPr>
          <a:xfrm>
            <a:off x="5379120" y="1839960"/>
            <a:ext cx="1123920" cy="1037160"/>
            <a:chOff x="5379120" y="1839960"/>
            <a:chExt cx="1123920" cy="1037160"/>
          </a:xfrm>
        </p:grpSpPr>
        <p:sp>
          <p:nvSpPr>
            <p:cNvPr id="3207" name="Oval 34"/>
            <p:cNvSpPr/>
            <p:nvPr/>
          </p:nvSpPr>
          <p:spPr>
            <a:xfrm>
              <a:off x="5716440" y="1839960"/>
              <a:ext cx="576360" cy="50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Line 35"/>
            <p:cNvSpPr/>
            <p:nvPr/>
          </p:nvSpPr>
          <p:spPr>
            <a:xfrm>
              <a:off x="5957640" y="2273040"/>
              <a:ext cx="0" cy="144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Text Box 36"/>
            <p:cNvSpPr/>
            <p:nvPr/>
          </p:nvSpPr>
          <p:spPr>
            <a:xfrm>
              <a:off x="5379120" y="241740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0" name="Text Box 28"/>
          <p:cNvSpPr/>
          <p:nvPr/>
        </p:nvSpPr>
        <p:spPr>
          <a:xfrm>
            <a:off x="324000" y="1839960"/>
            <a:ext cx="84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的只数是鸭的     。池塘里有多少只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10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10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10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379 L 3.33333E-006 0.01065 E">
                                      <p:cBhvr>
                                        <p:cTn id="1648" dur="2000" fill="hold"/>
                                        <p:tgtEl>
                                          <p:spTgt spid="3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21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22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22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9" name="Text Box 3"/>
          <p:cNvSpPr/>
          <p:nvPr/>
        </p:nvSpPr>
        <p:spPr>
          <a:xfrm>
            <a:off x="7567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 Box 4"/>
          <p:cNvSpPr/>
          <p:nvPr/>
        </p:nvSpPr>
        <p:spPr>
          <a:xfrm>
            <a:off x="772560" y="339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1" name="Group 5"/>
          <p:cNvGrpSpPr/>
          <p:nvPr/>
        </p:nvGrpSpPr>
        <p:grpSpPr>
          <a:xfrm>
            <a:off x="1565280" y="3552840"/>
            <a:ext cx="1440000" cy="142920"/>
            <a:chOff x="1565280" y="3552840"/>
            <a:chExt cx="1440000" cy="142920"/>
          </a:xfrm>
        </p:grpSpPr>
        <p:sp>
          <p:nvSpPr>
            <p:cNvPr id="3232" name="Line 6"/>
            <p:cNvSpPr/>
            <p:nvPr/>
          </p:nvSpPr>
          <p:spPr>
            <a:xfrm>
              <a:off x="1565280" y="36957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Line 7"/>
            <p:cNvSpPr/>
            <p:nvPr/>
          </p:nvSpPr>
          <p:spPr>
            <a:xfrm>
              <a:off x="156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Line 8"/>
            <p:cNvSpPr/>
            <p:nvPr/>
          </p:nvSpPr>
          <p:spPr>
            <a:xfrm>
              <a:off x="300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5" name="AutoShape 9"/>
          <p:cNvSpPr/>
          <p:nvPr/>
        </p:nvSpPr>
        <p:spPr>
          <a:xfrm rot="16200000">
            <a:off x="3694320" y="991800"/>
            <a:ext cx="45720" cy="4303800"/>
          </a:xfrm>
          <a:custGeom>
            <a:avLst/>
            <a:gdLst>
              <a:gd name="textAreaLeft" fmla="*/ 29160 w 45720"/>
              <a:gd name="textAreaRight" fmla="*/ 46080 w 45720"/>
              <a:gd name="textAreaTop" fmla="*/ 35640 h 4303800"/>
              <a:gd name="textAreaBottom" fmla="*/ 4268160 h 430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7"/>
                </a:cubicBezTo>
                <a:lnTo>
                  <a:pt x="10800" y="10223"/>
                </a:lnTo>
                <a:cubicBezTo>
                  <a:pt x="10800" y="10512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7"/>
                </a:cubicBezTo>
                <a:lnTo>
                  <a:pt x="10800" y="21023"/>
                </a:lnTo>
                <a:cubicBezTo>
                  <a:pt x="10800" y="2131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AutoShape 10"/>
          <p:cNvSpPr/>
          <p:nvPr/>
        </p:nvSpPr>
        <p:spPr>
          <a:xfrm rot="16200000">
            <a:off x="2212920" y="312048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Line 11"/>
          <p:cNvSpPr/>
          <p:nvPr/>
        </p:nvSpPr>
        <p:spPr>
          <a:xfrm>
            <a:off x="3005280" y="2832120"/>
            <a:ext cx="0" cy="865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2"/>
          <p:cNvSpPr/>
          <p:nvPr/>
        </p:nvSpPr>
        <p:spPr>
          <a:xfrm>
            <a:off x="3436560" y="317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？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13"/>
          <p:cNvSpPr/>
          <p:nvPr/>
        </p:nvSpPr>
        <p:spPr>
          <a:xfrm>
            <a:off x="1941840" y="37688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0" name="Group 14"/>
          <p:cNvGrpSpPr/>
          <p:nvPr/>
        </p:nvGrpSpPr>
        <p:grpSpPr>
          <a:xfrm>
            <a:off x="4716360" y="1700280"/>
            <a:ext cx="1728360" cy="1167480"/>
            <a:chOff x="4716360" y="1700280"/>
            <a:chExt cx="1728360" cy="1167480"/>
          </a:xfrm>
        </p:grpSpPr>
        <p:sp>
          <p:nvSpPr>
            <p:cNvPr id="3241" name="Oval 15"/>
            <p:cNvSpPr/>
            <p:nvPr/>
          </p:nvSpPr>
          <p:spPr>
            <a:xfrm>
              <a:off x="4716360" y="1700280"/>
              <a:ext cx="1728360" cy="51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Line 16"/>
            <p:cNvSpPr/>
            <p:nvPr/>
          </p:nvSpPr>
          <p:spPr>
            <a:xfrm>
              <a:off x="5568480" y="2218680"/>
              <a:ext cx="0" cy="189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Text Box 17"/>
            <p:cNvSpPr/>
            <p:nvPr/>
          </p:nvSpPr>
          <p:spPr>
            <a:xfrm>
              <a:off x="4984560" y="240804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4" name="Text Box 18"/>
          <p:cNvSpPr/>
          <p:nvPr/>
        </p:nvSpPr>
        <p:spPr>
          <a:xfrm>
            <a:off x="1763640" y="4365720"/>
            <a:ext cx="5543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单位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的量未知，可直接用除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5" name="Group 19"/>
          <p:cNvGrpSpPr/>
          <p:nvPr/>
        </p:nvGrpSpPr>
        <p:grpSpPr>
          <a:xfrm>
            <a:off x="2725560" y="5121360"/>
            <a:ext cx="3723480" cy="1256760"/>
            <a:chOff x="2725560" y="5121360"/>
            <a:chExt cx="3723480" cy="1256760"/>
          </a:xfrm>
        </p:grpSpPr>
        <p:sp>
          <p:nvSpPr>
            <p:cNvPr id="3246" name="Text Box 20"/>
            <p:cNvSpPr/>
            <p:nvPr/>
          </p:nvSpPr>
          <p:spPr>
            <a:xfrm>
              <a:off x="2725560" y="5303880"/>
              <a:ext cx="323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÷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（只）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7" name="Group 21"/>
            <p:cNvGrpSpPr/>
            <p:nvPr/>
          </p:nvGrpSpPr>
          <p:grpSpPr>
            <a:xfrm>
              <a:off x="3291120" y="5121360"/>
              <a:ext cx="380160" cy="895320"/>
              <a:chOff x="3291120" y="5121360"/>
              <a:chExt cx="380160" cy="895320"/>
            </a:xfrm>
          </p:grpSpPr>
          <p:sp>
            <p:nvSpPr>
              <p:cNvPr id="3248" name="Line 22"/>
              <p:cNvSpPr/>
              <p:nvPr/>
            </p:nvSpPr>
            <p:spPr>
              <a:xfrm>
                <a:off x="3332160" y="556740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Text Box 23"/>
              <p:cNvSpPr/>
              <p:nvPr/>
            </p:nvSpPr>
            <p:spPr>
              <a:xfrm>
                <a:off x="3291120" y="5121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Text Box 24"/>
              <p:cNvSpPr/>
              <p:nvPr/>
            </p:nvSpPr>
            <p:spPr>
              <a:xfrm>
                <a:off x="3292560" y="5496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1" name="Text Box 25"/>
            <p:cNvSpPr/>
            <p:nvPr/>
          </p:nvSpPr>
          <p:spPr>
            <a:xfrm>
              <a:off x="4137840" y="5918400"/>
              <a:ext cx="23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池塘里有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鸭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Group 26"/>
          <p:cNvGrpSpPr/>
          <p:nvPr/>
        </p:nvGrpSpPr>
        <p:grpSpPr>
          <a:xfrm>
            <a:off x="1565280" y="3552840"/>
            <a:ext cx="1440000" cy="142920"/>
            <a:chOff x="1565280" y="3552840"/>
            <a:chExt cx="1440000" cy="142920"/>
          </a:xfrm>
        </p:grpSpPr>
        <p:sp>
          <p:nvSpPr>
            <p:cNvPr id="3253" name="Line 27"/>
            <p:cNvSpPr/>
            <p:nvPr/>
          </p:nvSpPr>
          <p:spPr>
            <a:xfrm>
              <a:off x="1565280" y="36957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Line 28"/>
            <p:cNvSpPr/>
            <p:nvPr/>
          </p:nvSpPr>
          <p:spPr>
            <a:xfrm>
              <a:off x="156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Line 29"/>
            <p:cNvSpPr/>
            <p:nvPr/>
          </p:nvSpPr>
          <p:spPr>
            <a:xfrm>
              <a:off x="300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30"/>
          <p:cNvGrpSpPr/>
          <p:nvPr/>
        </p:nvGrpSpPr>
        <p:grpSpPr>
          <a:xfrm>
            <a:off x="1565280" y="2760840"/>
            <a:ext cx="1440000" cy="142560"/>
            <a:chOff x="1565280" y="2760840"/>
            <a:chExt cx="1440000" cy="142560"/>
          </a:xfrm>
        </p:grpSpPr>
        <p:sp>
          <p:nvSpPr>
            <p:cNvPr id="3257" name="Line 31"/>
            <p:cNvSpPr/>
            <p:nvPr/>
          </p:nvSpPr>
          <p:spPr>
            <a:xfrm>
              <a:off x="1565280" y="290340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Line 32"/>
            <p:cNvSpPr/>
            <p:nvPr/>
          </p:nvSpPr>
          <p:spPr>
            <a:xfrm>
              <a:off x="156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Line 33"/>
            <p:cNvSpPr/>
            <p:nvPr/>
          </p:nvSpPr>
          <p:spPr>
            <a:xfrm>
              <a:off x="300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Group 34"/>
          <p:cNvGrpSpPr/>
          <p:nvPr/>
        </p:nvGrpSpPr>
        <p:grpSpPr>
          <a:xfrm>
            <a:off x="3005280" y="2760840"/>
            <a:ext cx="1439640" cy="142560"/>
            <a:chOff x="3005280" y="2760840"/>
            <a:chExt cx="1439640" cy="142560"/>
          </a:xfrm>
        </p:grpSpPr>
        <p:sp>
          <p:nvSpPr>
            <p:cNvPr id="3261" name="Line 35"/>
            <p:cNvSpPr/>
            <p:nvPr/>
          </p:nvSpPr>
          <p:spPr>
            <a:xfrm>
              <a:off x="3005280" y="2903400"/>
              <a:ext cx="143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Line 36"/>
            <p:cNvSpPr/>
            <p:nvPr/>
          </p:nvSpPr>
          <p:spPr>
            <a:xfrm>
              <a:off x="300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Line 37"/>
            <p:cNvSpPr/>
            <p:nvPr/>
          </p:nvSpPr>
          <p:spPr>
            <a:xfrm>
              <a:off x="444492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Group 38"/>
          <p:cNvGrpSpPr/>
          <p:nvPr/>
        </p:nvGrpSpPr>
        <p:grpSpPr>
          <a:xfrm>
            <a:off x="3880800" y="3573360"/>
            <a:ext cx="2339280" cy="729000"/>
            <a:chOff x="3880800" y="3573360"/>
            <a:chExt cx="2339280" cy="729000"/>
          </a:xfrm>
        </p:grpSpPr>
        <p:grpSp>
          <p:nvGrpSpPr>
            <p:cNvPr id="3265" name="Group 39"/>
            <p:cNvGrpSpPr/>
            <p:nvPr/>
          </p:nvGrpSpPr>
          <p:grpSpPr>
            <a:xfrm>
              <a:off x="5220720" y="3612960"/>
              <a:ext cx="360000" cy="689400"/>
              <a:chOff x="5220720" y="3612960"/>
              <a:chExt cx="360000" cy="689400"/>
            </a:xfrm>
          </p:grpSpPr>
          <p:sp>
            <p:nvSpPr>
              <p:cNvPr id="3266" name="Line 40"/>
              <p:cNvSpPr/>
              <p:nvPr/>
            </p:nvSpPr>
            <p:spPr>
              <a:xfrm>
                <a:off x="5233320" y="3960720"/>
                <a:ext cx="347400" cy="144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Text Box 41"/>
              <p:cNvSpPr/>
              <p:nvPr/>
            </p:nvSpPr>
            <p:spPr>
              <a:xfrm>
                <a:off x="5220720" y="3612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Text Box 42"/>
              <p:cNvSpPr/>
              <p:nvPr/>
            </p:nvSpPr>
            <p:spPr>
              <a:xfrm>
                <a:off x="5222160" y="3903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Text Box 43"/>
            <p:cNvSpPr/>
            <p:nvPr/>
          </p:nvSpPr>
          <p:spPr>
            <a:xfrm>
              <a:off x="4849200" y="35733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仿宋_GB2312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   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仿宋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Text Box 44"/>
            <p:cNvSpPr/>
            <p:nvPr/>
          </p:nvSpPr>
          <p:spPr>
            <a:xfrm>
              <a:off x="3880800" y="3711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鸭的只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Text Box 45"/>
            <p:cNvSpPr/>
            <p:nvPr/>
          </p:nvSpPr>
          <p:spPr>
            <a:xfrm>
              <a:off x="5856480" y="371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2" name="Group 46"/>
          <p:cNvGrpSpPr/>
          <p:nvPr/>
        </p:nvGrpSpPr>
        <p:grpSpPr>
          <a:xfrm>
            <a:off x="6662880" y="1700280"/>
            <a:ext cx="415440" cy="719640"/>
            <a:chOff x="6662880" y="1700280"/>
            <a:chExt cx="415440" cy="719640"/>
          </a:xfrm>
        </p:grpSpPr>
        <p:sp>
          <p:nvSpPr>
            <p:cNvPr id="3273" name="Line 47"/>
            <p:cNvSpPr/>
            <p:nvPr/>
          </p:nvSpPr>
          <p:spPr>
            <a:xfrm>
              <a:off x="6662880" y="2084400"/>
              <a:ext cx="4154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Text Box 48"/>
            <p:cNvSpPr/>
            <p:nvPr/>
          </p:nvSpPr>
          <p:spPr>
            <a:xfrm>
              <a:off x="668412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Text Box 49"/>
            <p:cNvSpPr/>
            <p:nvPr/>
          </p:nvSpPr>
          <p:spPr>
            <a:xfrm>
              <a:off x="6685200" y="202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Text Box 50"/>
          <p:cNvSpPr/>
          <p:nvPr/>
        </p:nvSpPr>
        <p:spPr>
          <a:xfrm>
            <a:off x="324000" y="17524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好是鸭的只数的     。池塘里有多少只鸭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Group 34"/>
          <p:cNvGrpSpPr/>
          <p:nvPr/>
        </p:nvGrpSpPr>
        <p:grpSpPr>
          <a:xfrm>
            <a:off x="4429080" y="2781360"/>
            <a:ext cx="1440000" cy="142920"/>
            <a:chOff x="4429080" y="2781360"/>
            <a:chExt cx="1440000" cy="142920"/>
          </a:xfrm>
        </p:grpSpPr>
        <p:sp>
          <p:nvSpPr>
            <p:cNvPr id="3278" name="Line 35"/>
            <p:cNvSpPr/>
            <p:nvPr/>
          </p:nvSpPr>
          <p:spPr>
            <a:xfrm>
              <a:off x="4429080" y="292428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Line 36"/>
            <p:cNvSpPr/>
            <p:nvPr/>
          </p:nvSpPr>
          <p:spPr>
            <a:xfrm>
              <a:off x="4429080" y="27813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Line 37"/>
            <p:cNvSpPr/>
            <p:nvPr/>
          </p:nvSpPr>
          <p:spPr>
            <a:xfrm>
              <a:off x="5869080" y="27813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00017 -0.10486 E">
                                      <p:cBhvr>
                                        <p:cTn id="1701" dur="2000" fill="hold"/>
                                        <p:tgtEl>
                                          <p:spTgt spid="3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06" dur="500" fill="hold"/>
                                        <p:tgtEl>
                                          <p:spTgt spid="3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11" dur="500" fill="hold"/>
                                        <p:tgtEl>
                                          <p:spTgt spid="3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10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10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57" dur="500" fill="hold"/>
                                        <p:tgtEl>
                                          <p:spTgt spid="3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28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29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29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9" name="Rectangle 5"/>
          <p:cNvSpPr/>
          <p:nvPr/>
        </p:nvSpPr>
        <p:spPr>
          <a:xfrm>
            <a:off x="395280" y="3141720"/>
            <a:ext cx="381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这些橘子分给大班和小班，怎么分合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Rectangle 7"/>
          <p:cNvSpPr/>
          <p:nvPr/>
        </p:nvSpPr>
        <p:spPr>
          <a:xfrm>
            <a:off x="611280" y="182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橘子，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比分给两个班，应该怎样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Rectangle 8"/>
          <p:cNvSpPr/>
          <p:nvPr/>
        </p:nvSpPr>
        <p:spPr>
          <a:xfrm>
            <a:off x="5148360" y="3430440"/>
            <a:ext cx="55728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Rectangle 9"/>
          <p:cNvSpPr/>
          <p:nvPr/>
        </p:nvSpPr>
        <p:spPr>
          <a:xfrm>
            <a:off x="6012000" y="3430440"/>
            <a:ext cx="55692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Rectangle 10"/>
          <p:cNvSpPr/>
          <p:nvPr/>
        </p:nvSpPr>
        <p:spPr>
          <a:xfrm>
            <a:off x="6804000" y="3430440"/>
            <a:ext cx="557280" cy="4320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Rectangle 11"/>
          <p:cNvSpPr/>
          <p:nvPr/>
        </p:nvSpPr>
        <p:spPr>
          <a:xfrm>
            <a:off x="7596360" y="3430440"/>
            <a:ext cx="556920" cy="4320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Rectangle 12"/>
          <p:cNvSpPr/>
          <p:nvPr/>
        </p:nvSpPr>
        <p:spPr>
          <a:xfrm>
            <a:off x="4356000" y="3430440"/>
            <a:ext cx="55728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3"/>
          <p:cNvSpPr/>
          <p:nvPr/>
        </p:nvSpPr>
        <p:spPr>
          <a:xfrm>
            <a:off x="4425840" y="210996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4"/>
          <p:cNvSpPr/>
          <p:nvPr/>
        </p:nvSpPr>
        <p:spPr>
          <a:xfrm>
            <a:off x="5135400" y="215568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15"/>
          <p:cNvSpPr/>
          <p:nvPr/>
        </p:nvSpPr>
        <p:spPr>
          <a:xfrm>
            <a:off x="3964680" y="234936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班占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，小班占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AutoShape 17"/>
          <p:cNvSpPr/>
          <p:nvPr/>
        </p:nvSpPr>
        <p:spPr>
          <a:xfrm rot="16200000">
            <a:off x="5472000" y="2960640"/>
            <a:ext cx="71280" cy="2160360"/>
          </a:xfrm>
          <a:custGeom>
            <a:avLst/>
            <a:gdLst>
              <a:gd name="textAreaLeft" fmla="*/ 45720 w 71280"/>
              <a:gd name="textAreaRight" fmla="*/ 71640 w 71280"/>
              <a:gd name="textAreaTop" fmla="*/ 28800 h 2160360"/>
              <a:gd name="textAreaBottom" fmla="*/ 21315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3"/>
                  <a:pt x="10800" y="926"/>
                </a:cubicBezTo>
                <a:lnTo>
                  <a:pt x="10800" y="9874"/>
                </a:lnTo>
                <a:cubicBezTo>
                  <a:pt x="10800" y="10337"/>
                  <a:pt x="5400" y="10800"/>
                  <a:pt x="0" y="10800"/>
                </a:cubicBezTo>
                <a:cubicBezTo>
                  <a:pt x="5400" y="10800"/>
                  <a:pt x="10800" y="11263"/>
                  <a:pt x="10800" y="11726"/>
                </a:cubicBezTo>
                <a:lnTo>
                  <a:pt x="10800" y="20674"/>
                </a:lnTo>
                <a:cubicBezTo>
                  <a:pt x="10800" y="211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AutoShape 18"/>
          <p:cNvSpPr/>
          <p:nvPr/>
        </p:nvSpPr>
        <p:spPr>
          <a:xfrm rot="16200000">
            <a:off x="7434000" y="3411000"/>
            <a:ext cx="142920" cy="133056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330560"/>
              <a:gd name="textAreaBottom" fmla="*/ 1293120 h 133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1"/>
                  <a:pt x="10800" y="1942"/>
                </a:cubicBezTo>
                <a:lnTo>
                  <a:pt x="10800" y="8858"/>
                </a:lnTo>
                <a:cubicBezTo>
                  <a:pt x="10800" y="9829"/>
                  <a:pt x="5400" y="10800"/>
                  <a:pt x="0" y="10800"/>
                </a:cubicBezTo>
                <a:cubicBezTo>
                  <a:pt x="5400" y="10800"/>
                  <a:pt x="10800" y="11771"/>
                  <a:pt x="10800" y="12742"/>
                </a:cubicBezTo>
                <a:lnTo>
                  <a:pt x="10800" y="19658"/>
                </a:lnTo>
                <a:cubicBezTo>
                  <a:pt x="10800" y="206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Group 19"/>
          <p:cNvGrpSpPr/>
          <p:nvPr/>
        </p:nvGrpSpPr>
        <p:grpSpPr>
          <a:xfrm>
            <a:off x="4750200" y="4149720"/>
            <a:ext cx="1573920" cy="785160"/>
            <a:chOff x="4750200" y="4149720"/>
            <a:chExt cx="1573920" cy="785160"/>
          </a:xfrm>
        </p:grpSpPr>
        <p:sp>
          <p:nvSpPr>
            <p:cNvPr id="3312" name="Text Box 20"/>
            <p:cNvSpPr/>
            <p:nvPr/>
          </p:nvSpPr>
          <p:spPr>
            <a:xfrm>
              <a:off x="4750200" y="429228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班占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Group 21"/>
            <p:cNvGrpSpPr/>
            <p:nvPr/>
          </p:nvGrpSpPr>
          <p:grpSpPr>
            <a:xfrm>
              <a:off x="5809680" y="4149720"/>
              <a:ext cx="514440" cy="785160"/>
              <a:chOff x="5809680" y="4149720"/>
              <a:chExt cx="514440" cy="785160"/>
            </a:xfrm>
          </p:grpSpPr>
          <p:sp>
            <p:nvSpPr>
              <p:cNvPr id="3314" name="Text Box 22"/>
              <p:cNvSpPr/>
              <p:nvPr/>
            </p:nvSpPr>
            <p:spPr>
              <a:xfrm>
                <a:off x="5862960" y="4475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Text Box 23"/>
              <p:cNvSpPr/>
              <p:nvPr/>
            </p:nvSpPr>
            <p:spPr>
              <a:xfrm>
                <a:off x="5862960" y="414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24"/>
              <p:cNvSpPr/>
              <p:nvPr/>
            </p:nvSpPr>
            <p:spPr>
              <a:xfrm>
                <a:off x="5809680" y="4509000"/>
                <a:ext cx="51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7" name="Group 25"/>
          <p:cNvGrpSpPr/>
          <p:nvPr/>
        </p:nvGrpSpPr>
        <p:grpSpPr>
          <a:xfrm>
            <a:off x="6783840" y="4149720"/>
            <a:ext cx="1474200" cy="702360"/>
            <a:chOff x="6783840" y="4149720"/>
            <a:chExt cx="1474200" cy="702360"/>
          </a:xfrm>
        </p:grpSpPr>
        <p:sp>
          <p:nvSpPr>
            <p:cNvPr id="3318" name="Text Box 26"/>
            <p:cNvSpPr/>
            <p:nvPr/>
          </p:nvSpPr>
          <p:spPr>
            <a:xfrm>
              <a:off x="6783840" y="424404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班占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9" name="Group 27"/>
            <p:cNvGrpSpPr/>
            <p:nvPr/>
          </p:nvGrpSpPr>
          <p:grpSpPr>
            <a:xfrm>
              <a:off x="7703640" y="4149720"/>
              <a:ext cx="554400" cy="702360"/>
              <a:chOff x="7703640" y="4149720"/>
              <a:chExt cx="554400" cy="702360"/>
            </a:xfrm>
          </p:grpSpPr>
          <p:sp>
            <p:nvSpPr>
              <p:cNvPr id="3320" name="Text Box 28"/>
              <p:cNvSpPr/>
              <p:nvPr/>
            </p:nvSpPr>
            <p:spPr>
              <a:xfrm>
                <a:off x="7908120" y="4392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Text Box 29"/>
              <p:cNvSpPr/>
              <p:nvPr/>
            </p:nvSpPr>
            <p:spPr>
              <a:xfrm>
                <a:off x="7908120" y="414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Line 30"/>
              <p:cNvSpPr/>
              <p:nvPr/>
            </p:nvSpPr>
            <p:spPr>
              <a:xfrm>
                <a:off x="7703640" y="4509000"/>
                <a:ext cx="523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3" name="AutoShape 31"/>
          <p:cNvSpPr/>
          <p:nvPr/>
        </p:nvSpPr>
        <p:spPr>
          <a:xfrm flipV="1" rot="5400000">
            <a:off x="6192720" y="1303920"/>
            <a:ext cx="142920" cy="38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67320 h 3816360"/>
              <a:gd name="textAreaBottom" fmla="*/ 374904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1"/>
                  <a:pt x="10800" y="1222"/>
                </a:cubicBezTo>
                <a:lnTo>
                  <a:pt x="10800" y="9731"/>
                </a:lnTo>
                <a:cubicBezTo>
                  <a:pt x="10800" y="10342"/>
                  <a:pt x="5400" y="10953"/>
                  <a:pt x="0" y="10953"/>
                </a:cubicBezTo>
                <a:cubicBezTo>
                  <a:pt x="5400" y="10953"/>
                  <a:pt x="10800" y="11564"/>
                  <a:pt x="10800" y="12175"/>
                </a:cubicBezTo>
                <a:lnTo>
                  <a:pt x="10800" y="20378"/>
                </a:lnTo>
                <a:cubicBezTo>
                  <a:pt x="10800" y="209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Rectangle 32"/>
          <p:cNvSpPr/>
          <p:nvPr/>
        </p:nvSpPr>
        <p:spPr>
          <a:xfrm>
            <a:off x="5292720" y="2693880"/>
            <a:ext cx="13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Line 36"/>
          <p:cNvSpPr/>
          <p:nvPr/>
        </p:nvSpPr>
        <p:spPr>
          <a:xfrm>
            <a:off x="301680" y="611352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6" name="Group 37"/>
          <p:cNvGrpSpPr/>
          <p:nvPr/>
        </p:nvGrpSpPr>
        <p:grpSpPr>
          <a:xfrm>
            <a:off x="668160" y="4292640"/>
            <a:ext cx="3715200" cy="997200"/>
            <a:chOff x="668160" y="4292640"/>
            <a:chExt cx="3715200" cy="997200"/>
          </a:xfrm>
        </p:grpSpPr>
        <p:sp>
          <p:nvSpPr>
            <p:cNvPr id="3327" name="Text Box 38"/>
            <p:cNvSpPr/>
            <p:nvPr/>
          </p:nvSpPr>
          <p:spPr>
            <a:xfrm>
              <a:off x="668160" y="4556160"/>
              <a:ext cx="37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40×   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4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个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Text Box 39"/>
            <p:cNvSpPr/>
            <p:nvPr/>
          </p:nvSpPr>
          <p:spPr>
            <a:xfrm>
              <a:off x="1368360" y="470844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+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Text Box 40"/>
            <p:cNvSpPr/>
            <p:nvPr/>
          </p:nvSpPr>
          <p:spPr>
            <a:xfrm>
              <a:off x="1254600" y="429264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Line 41"/>
            <p:cNvSpPr/>
            <p:nvPr/>
          </p:nvSpPr>
          <p:spPr>
            <a:xfrm>
              <a:off x="1620000" y="4795920"/>
              <a:ext cx="557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1" name="Text Box 43"/>
          <p:cNvSpPr/>
          <p:nvPr/>
        </p:nvSpPr>
        <p:spPr>
          <a:xfrm>
            <a:off x="739440" y="5372280"/>
            <a:ext cx="37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0×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个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44"/>
          <p:cNvSpPr/>
          <p:nvPr/>
        </p:nvSpPr>
        <p:spPr>
          <a:xfrm>
            <a:off x="1368720" y="551664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45"/>
          <p:cNvSpPr/>
          <p:nvPr/>
        </p:nvSpPr>
        <p:spPr>
          <a:xfrm>
            <a:off x="1240560" y="508464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46"/>
          <p:cNvSpPr/>
          <p:nvPr/>
        </p:nvSpPr>
        <p:spPr>
          <a:xfrm>
            <a:off x="1619280" y="5587920"/>
            <a:ext cx="5587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矩形 63"/>
          <p:cNvSpPr/>
          <p:nvPr/>
        </p:nvSpPr>
        <p:spPr>
          <a:xfrm>
            <a:off x="4788000" y="5373720"/>
            <a:ext cx="352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问题的一般思考步骤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什么？有多少？怎样分？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矩形 64"/>
          <p:cNvSpPr/>
          <p:nvPr/>
        </p:nvSpPr>
        <p:spPr>
          <a:xfrm>
            <a:off x="956160" y="1035000"/>
            <a:ext cx="25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按比例分配”的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4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6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5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500"/>
                            </p:stCondLst>
                            <p:childTnLst>
                              <p:par>
                                <p:cTn id="18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8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3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2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5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8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3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33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0" name="Text Box 29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3351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3352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3353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0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1000"/>
                                        <p:tgtEl>
                                          <p:spTgt spid="3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1" name="Group 2"/>
          <p:cNvGrpSpPr/>
          <p:nvPr/>
        </p:nvGrpSpPr>
        <p:grpSpPr>
          <a:xfrm>
            <a:off x="428760" y="857160"/>
            <a:ext cx="6842160" cy="1080720"/>
            <a:chOff x="428760" y="857160"/>
            <a:chExt cx="6842160" cy="1080720"/>
          </a:xfrm>
        </p:grpSpPr>
        <p:sp>
          <p:nvSpPr>
            <p:cNvPr id="2522" name="Oval 3"/>
            <p:cNvSpPr/>
            <p:nvPr/>
          </p:nvSpPr>
          <p:spPr>
            <a:xfrm>
              <a:off x="42876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4"/>
            <p:cNvSpPr/>
            <p:nvPr/>
          </p:nvSpPr>
          <p:spPr>
            <a:xfrm>
              <a:off x="140652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5"/>
            <p:cNvSpPr/>
            <p:nvPr/>
          </p:nvSpPr>
          <p:spPr>
            <a:xfrm>
              <a:off x="194148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6"/>
            <p:cNvSpPr/>
            <p:nvPr/>
          </p:nvSpPr>
          <p:spPr>
            <a:xfrm>
              <a:off x="240516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7"/>
            <p:cNvSpPr/>
            <p:nvPr/>
          </p:nvSpPr>
          <p:spPr>
            <a:xfrm>
              <a:off x="312912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Oval 8"/>
            <p:cNvSpPr/>
            <p:nvPr/>
          </p:nvSpPr>
          <p:spPr>
            <a:xfrm>
              <a:off x="355608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9"/>
            <p:cNvSpPr/>
            <p:nvPr/>
          </p:nvSpPr>
          <p:spPr>
            <a:xfrm>
              <a:off x="407016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10"/>
            <p:cNvSpPr/>
            <p:nvPr/>
          </p:nvSpPr>
          <p:spPr>
            <a:xfrm>
              <a:off x="439272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Oval 11"/>
            <p:cNvSpPr/>
            <p:nvPr/>
          </p:nvSpPr>
          <p:spPr>
            <a:xfrm>
              <a:off x="489276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Oval 12"/>
            <p:cNvSpPr/>
            <p:nvPr/>
          </p:nvSpPr>
          <p:spPr>
            <a:xfrm>
              <a:off x="536112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Oval 13"/>
            <p:cNvSpPr/>
            <p:nvPr/>
          </p:nvSpPr>
          <p:spPr>
            <a:xfrm>
              <a:off x="606600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14"/>
            <p:cNvSpPr/>
            <p:nvPr/>
          </p:nvSpPr>
          <p:spPr>
            <a:xfrm>
              <a:off x="686016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3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3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9" name="Text Box 3"/>
          <p:cNvSpPr/>
          <p:nvPr/>
        </p:nvSpPr>
        <p:spPr>
          <a:xfrm>
            <a:off x="682560" y="17017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整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0" name="对象 6164" descr=""/>
          <p:cNvPicPr/>
          <p:nvPr/>
        </p:nvPicPr>
        <p:blipFill>
          <a:blip r:embed="rId2"/>
          <a:stretch/>
        </p:blipFill>
        <p:spPr>
          <a:xfrm>
            <a:off x="2568600" y="2367000"/>
            <a:ext cx="1211400" cy="1073160"/>
          </a:xfrm>
          <a:prstGeom prst="rect">
            <a:avLst/>
          </a:prstGeom>
          <a:ln w="0">
            <a:noFill/>
          </a:ln>
        </p:spPr>
      </p:pic>
      <p:pic>
        <p:nvPicPr>
          <p:cNvPr id="2541" name="对象 6165" descr=""/>
          <p:cNvPicPr/>
          <p:nvPr/>
        </p:nvPicPr>
        <p:blipFill>
          <a:blip r:embed="rId3"/>
          <a:stretch/>
        </p:blipFill>
        <p:spPr>
          <a:xfrm>
            <a:off x="3994200" y="2419200"/>
            <a:ext cx="1027080" cy="901800"/>
          </a:xfrm>
          <a:prstGeom prst="rect">
            <a:avLst/>
          </a:prstGeom>
          <a:ln w="0">
            <a:noFill/>
          </a:ln>
        </p:spPr>
      </p:pic>
      <p:sp>
        <p:nvSpPr>
          <p:cNvPr id="2542" name="Line 8"/>
          <p:cNvSpPr/>
          <p:nvPr/>
        </p:nvSpPr>
        <p:spPr>
          <a:xfrm>
            <a:off x="4622760" y="244476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4319640" y="300348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10"/>
          <p:cNvSpPr/>
          <p:nvPr/>
        </p:nvSpPr>
        <p:spPr>
          <a:xfrm>
            <a:off x="487188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640400" y="297648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6" name="对象 6170" descr=""/>
          <p:cNvPicPr/>
          <p:nvPr/>
        </p:nvPicPr>
        <p:blipFill>
          <a:blip r:embed="rId4"/>
          <a:stretch/>
        </p:blipFill>
        <p:spPr>
          <a:xfrm>
            <a:off x="5221440" y="2419200"/>
            <a:ext cx="938160" cy="1003320"/>
          </a:xfrm>
          <a:prstGeom prst="rect">
            <a:avLst/>
          </a:prstGeom>
          <a:ln w="0">
            <a:noFill/>
          </a:ln>
        </p:spPr>
      </p:pic>
      <p:sp>
        <p:nvSpPr>
          <p:cNvPr id="2547" name="Text Box 3"/>
          <p:cNvSpPr/>
          <p:nvPr/>
        </p:nvSpPr>
        <p:spPr>
          <a:xfrm>
            <a:off x="758880" y="370044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对象 6172" descr=""/>
          <p:cNvPicPr/>
          <p:nvPr/>
        </p:nvPicPr>
        <p:blipFill>
          <a:blip r:embed="rId5"/>
          <a:stretch/>
        </p:blipFill>
        <p:spPr>
          <a:xfrm>
            <a:off x="2550960" y="4653000"/>
            <a:ext cx="1425600" cy="1163520"/>
          </a:xfrm>
          <a:prstGeom prst="rect">
            <a:avLst/>
          </a:prstGeom>
          <a:ln w="0">
            <a:noFill/>
          </a:ln>
        </p:spPr>
      </p:pic>
      <p:pic>
        <p:nvPicPr>
          <p:cNvPr id="2549" name="对象 6173" descr=""/>
          <p:cNvPicPr/>
          <p:nvPr/>
        </p:nvPicPr>
        <p:blipFill>
          <a:blip r:embed="rId6"/>
          <a:stretch/>
        </p:blipFill>
        <p:spPr>
          <a:xfrm>
            <a:off x="3995640" y="4722840"/>
            <a:ext cx="1138320" cy="961920"/>
          </a:xfrm>
          <a:prstGeom prst="rect">
            <a:avLst/>
          </a:prstGeom>
          <a:ln w="0">
            <a:noFill/>
          </a:ln>
        </p:spPr>
      </p:pic>
      <p:sp>
        <p:nvSpPr>
          <p:cNvPr id="2550" name="Line 8"/>
          <p:cNvSpPr/>
          <p:nvPr/>
        </p:nvSpPr>
        <p:spPr>
          <a:xfrm>
            <a:off x="4605480" y="482112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9"/>
          <p:cNvSpPr/>
          <p:nvPr/>
        </p:nvSpPr>
        <p:spPr>
          <a:xfrm>
            <a:off x="3995640" y="537228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10"/>
          <p:cNvSpPr/>
          <p:nvPr/>
        </p:nvSpPr>
        <p:spPr>
          <a:xfrm>
            <a:off x="4854600" y="45640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 Box 11"/>
          <p:cNvSpPr/>
          <p:nvPr/>
        </p:nvSpPr>
        <p:spPr>
          <a:xfrm>
            <a:off x="3817800" y="551016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4" name="对象 6178" descr=""/>
          <p:cNvPicPr/>
          <p:nvPr/>
        </p:nvPicPr>
        <p:blipFill>
          <a:blip r:embed="rId7"/>
          <a:stretch/>
        </p:blipFill>
        <p:spPr>
          <a:xfrm>
            <a:off x="5203800" y="4645080"/>
            <a:ext cx="10796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5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6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7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3" name="Text Box 3"/>
          <p:cNvSpPr/>
          <p:nvPr/>
        </p:nvSpPr>
        <p:spPr>
          <a:xfrm>
            <a:off x="466560" y="1700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小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4" name="对象 7188" descr=""/>
          <p:cNvPicPr/>
          <p:nvPr/>
        </p:nvPicPr>
        <p:blipFill>
          <a:blip r:embed="rId2"/>
          <a:stretch/>
        </p:blipFill>
        <p:spPr>
          <a:xfrm>
            <a:off x="2735280" y="2349360"/>
            <a:ext cx="1147680" cy="792360"/>
          </a:xfrm>
          <a:prstGeom prst="rect">
            <a:avLst/>
          </a:prstGeom>
          <a:ln w="0">
            <a:noFill/>
          </a:ln>
        </p:spPr>
      </p:pic>
      <p:sp>
        <p:nvSpPr>
          <p:cNvPr id="2575" name="Text Box 5"/>
          <p:cNvSpPr/>
          <p:nvPr/>
        </p:nvSpPr>
        <p:spPr>
          <a:xfrm>
            <a:off x="647640" y="24224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对象 7190" descr=""/>
          <p:cNvPicPr/>
          <p:nvPr/>
        </p:nvPicPr>
        <p:blipFill>
          <a:blip r:embed="rId3"/>
          <a:stretch/>
        </p:blipFill>
        <p:spPr>
          <a:xfrm>
            <a:off x="1295280" y="3500280"/>
            <a:ext cx="1368720" cy="943200"/>
          </a:xfrm>
          <a:prstGeom prst="rect">
            <a:avLst/>
          </a:prstGeom>
          <a:ln w="0">
            <a:noFill/>
          </a:ln>
        </p:spPr>
      </p:pic>
      <p:pic>
        <p:nvPicPr>
          <p:cNvPr id="2577" name="对象 7191" descr=""/>
          <p:cNvPicPr/>
          <p:nvPr/>
        </p:nvPicPr>
        <p:blipFill>
          <a:blip r:embed="rId4"/>
          <a:stretch/>
        </p:blipFill>
        <p:spPr>
          <a:xfrm>
            <a:off x="2664000" y="3500280"/>
            <a:ext cx="1431720" cy="960480"/>
          </a:xfrm>
          <a:prstGeom prst="rect">
            <a:avLst/>
          </a:prstGeom>
          <a:ln w="0">
            <a:noFill/>
          </a:ln>
        </p:spPr>
      </p:pic>
      <p:sp>
        <p:nvSpPr>
          <p:cNvPr id="2578" name="Line 8"/>
          <p:cNvSpPr/>
          <p:nvPr/>
        </p:nvSpPr>
        <p:spPr>
          <a:xfrm>
            <a:off x="2664000" y="3571920"/>
            <a:ext cx="649080" cy="288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9"/>
          <p:cNvSpPr/>
          <p:nvPr/>
        </p:nvSpPr>
        <p:spPr>
          <a:xfrm>
            <a:off x="3168720" y="4076640"/>
            <a:ext cx="3585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0"/>
          <p:cNvSpPr/>
          <p:nvPr/>
        </p:nvSpPr>
        <p:spPr>
          <a:xfrm>
            <a:off x="2738520" y="31399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1"/>
          <p:cNvSpPr/>
          <p:nvPr/>
        </p:nvSpPr>
        <p:spPr>
          <a:xfrm>
            <a:off x="3456000" y="41482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2" name="对象 7196" descr=""/>
          <p:cNvPicPr/>
          <p:nvPr/>
        </p:nvPicPr>
        <p:blipFill>
          <a:blip r:embed="rId5"/>
          <a:stretch/>
        </p:blipFill>
        <p:spPr>
          <a:xfrm>
            <a:off x="2305080" y="4653000"/>
            <a:ext cx="1197000" cy="431640"/>
          </a:xfrm>
          <a:prstGeom prst="rect">
            <a:avLst/>
          </a:prstGeom>
          <a:ln w="0">
            <a:noFill/>
          </a:ln>
        </p:spPr>
      </p:pic>
      <p:pic>
        <p:nvPicPr>
          <p:cNvPr id="2583" name="对象 7197" descr=""/>
          <p:cNvPicPr/>
          <p:nvPr/>
        </p:nvPicPr>
        <p:blipFill>
          <a:blip r:embed="rId6"/>
          <a:stretch/>
        </p:blipFill>
        <p:spPr>
          <a:xfrm>
            <a:off x="5111640" y="3500280"/>
            <a:ext cx="1368360" cy="944640"/>
          </a:xfrm>
          <a:prstGeom prst="rect">
            <a:avLst/>
          </a:prstGeom>
          <a:ln w="0">
            <a:noFill/>
          </a:ln>
        </p:spPr>
      </p:pic>
      <p:pic>
        <p:nvPicPr>
          <p:cNvPr id="2584" name="对象 7198" descr=""/>
          <p:cNvPicPr/>
          <p:nvPr/>
        </p:nvPicPr>
        <p:blipFill>
          <a:blip r:embed="rId7"/>
          <a:stretch/>
        </p:blipFill>
        <p:spPr>
          <a:xfrm>
            <a:off x="6553080" y="3573360"/>
            <a:ext cx="1432080" cy="960480"/>
          </a:xfrm>
          <a:prstGeom prst="rect">
            <a:avLst/>
          </a:prstGeom>
          <a:ln w="0">
            <a:noFill/>
          </a:ln>
        </p:spPr>
      </p:pic>
      <p:sp>
        <p:nvSpPr>
          <p:cNvPr id="2585" name="Line 15"/>
          <p:cNvSpPr/>
          <p:nvPr/>
        </p:nvSpPr>
        <p:spPr>
          <a:xfrm>
            <a:off x="6624720" y="3573360"/>
            <a:ext cx="431640" cy="360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6"/>
          <p:cNvSpPr/>
          <p:nvPr/>
        </p:nvSpPr>
        <p:spPr>
          <a:xfrm>
            <a:off x="6551640" y="3213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7"/>
          <p:cNvSpPr/>
          <p:nvPr/>
        </p:nvSpPr>
        <p:spPr>
          <a:xfrm>
            <a:off x="7702560" y="407664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8" name="对象 7202" descr=""/>
          <p:cNvPicPr/>
          <p:nvPr/>
        </p:nvPicPr>
        <p:blipFill>
          <a:blip r:embed="rId8"/>
          <a:stretch/>
        </p:blipFill>
        <p:spPr>
          <a:xfrm>
            <a:off x="6191280" y="4581360"/>
            <a:ext cx="1111320" cy="960480"/>
          </a:xfrm>
          <a:prstGeom prst="rect">
            <a:avLst/>
          </a:prstGeom>
          <a:ln w="0">
            <a:noFill/>
          </a:ln>
        </p:spPr>
      </p:pic>
      <p:sp>
        <p:nvSpPr>
          <p:cNvPr id="2589" name="Line 19"/>
          <p:cNvSpPr/>
          <p:nvPr/>
        </p:nvSpPr>
        <p:spPr>
          <a:xfrm>
            <a:off x="4535640" y="3068640"/>
            <a:ext cx="1440" cy="252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20"/>
          <p:cNvSpPr/>
          <p:nvPr/>
        </p:nvSpPr>
        <p:spPr>
          <a:xfrm>
            <a:off x="7488360" y="407664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9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4" name="Text Box 3"/>
          <p:cNvSpPr/>
          <p:nvPr/>
        </p:nvSpPr>
        <p:spPr>
          <a:xfrm>
            <a:off x="684360" y="13255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5" name="对象 8207" descr=""/>
          <p:cNvPicPr/>
          <p:nvPr/>
        </p:nvPicPr>
        <p:blipFill>
          <a:blip r:embed="rId1"/>
          <a:stretch/>
        </p:blipFill>
        <p:spPr>
          <a:xfrm>
            <a:off x="1260360" y="2217600"/>
            <a:ext cx="1006560" cy="868680"/>
          </a:xfrm>
          <a:prstGeom prst="rect">
            <a:avLst/>
          </a:prstGeom>
          <a:ln w="0">
            <a:noFill/>
          </a:ln>
        </p:spPr>
      </p:pic>
      <p:pic>
        <p:nvPicPr>
          <p:cNvPr id="2606" name="对象 8208" descr=""/>
          <p:cNvPicPr/>
          <p:nvPr/>
        </p:nvPicPr>
        <p:blipFill>
          <a:blip r:embed="rId2"/>
          <a:stretch/>
        </p:blipFill>
        <p:spPr>
          <a:xfrm>
            <a:off x="3633840" y="2205000"/>
            <a:ext cx="950760" cy="868320"/>
          </a:xfrm>
          <a:prstGeom prst="rect">
            <a:avLst/>
          </a:prstGeom>
          <a:ln w="0">
            <a:noFill/>
          </a:ln>
        </p:spPr>
      </p:pic>
      <p:pic>
        <p:nvPicPr>
          <p:cNvPr id="2607" name="对象 8209" descr=""/>
          <p:cNvPicPr/>
          <p:nvPr/>
        </p:nvPicPr>
        <p:blipFill>
          <a:blip r:embed="rId3"/>
          <a:stretch/>
        </p:blipFill>
        <p:spPr>
          <a:xfrm>
            <a:off x="5937120" y="2217600"/>
            <a:ext cx="1065240" cy="868680"/>
          </a:xfrm>
          <a:prstGeom prst="rect">
            <a:avLst/>
          </a:prstGeom>
          <a:ln w="0">
            <a:noFill/>
          </a:ln>
        </p:spPr>
      </p:pic>
      <p:pic>
        <p:nvPicPr>
          <p:cNvPr id="2608" name="对象 8210" descr=""/>
          <p:cNvPicPr/>
          <p:nvPr/>
        </p:nvPicPr>
        <p:blipFill>
          <a:blip r:embed="rId4"/>
          <a:stretch/>
        </p:blipFill>
        <p:spPr>
          <a:xfrm>
            <a:off x="1260360" y="3370320"/>
            <a:ext cx="1233720" cy="868320"/>
          </a:xfrm>
          <a:prstGeom prst="rect">
            <a:avLst/>
          </a:prstGeom>
          <a:ln w="0">
            <a:noFill/>
          </a:ln>
        </p:spPr>
      </p:pic>
      <p:pic>
        <p:nvPicPr>
          <p:cNvPr id="2609" name="对象 8211" descr=""/>
          <p:cNvPicPr/>
          <p:nvPr/>
        </p:nvPicPr>
        <p:blipFill>
          <a:blip r:embed="rId5"/>
          <a:stretch/>
        </p:blipFill>
        <p:spPr>
          <a:xfrm>
            <a:off x="3564000" y="3370320"/>
            <a:ext cx="1177920" cy="868320"/>
          </a:xfrm>
          <a:prstGeom prst="rect">
            <a:avLst/>
          </a:prstGeom>
          <a:ln w="0">
            <a:noFill/>
          </a:ln>
        </p:spPr>
      </p:pic>
      <p:pic>
        <p:nvPicPr>
          <p:cNvPr id="2610" name="对象 8212" descr=""/>
          <p:cNvPicPr/>
          <p:nvPr/>
        </p:nvPicPr>
        <p:blipFill>
          <a:blip r:embed="rId6"/>
          <a:stretch/>
        </p:blipFill>
        <p:spPr>
          <a:xfrm>
            <a:off x="5940360" y="3370320"/>
            <a:ext cx="1063800" cy="868320"/>
          </a:xfrm>
          <a:prstGeom prst="rect">
            <a:avLst/>
          </a:prstGeom>
          <a:ln w="0">
            <a:noFill/>
          </a:ln>
        </p:spPr>
      </p:pic>
      <p:pic>
        <p:nvPicPr>
          <p:cNvPr id="2611" name="对象 8213" descr=""/>
          <p:cNvPicPr/>
          <p:nvPr/>
        </p:nvPicPr>
        <p:blipFill>
          <a:blip r:embed="rId7"/>
          <a:stretch/>
        </p:blipFill>
        <p:spPr>
          <a:xfrm>
            <a:off x="1260360" y="4594320"/>
            <a:ext cx="1371600" cy="868320"/>
          </a:xfrm>
          <a:prstGeom prst="rect">
            <a:avLst/>
          </a:prstGeom>
          <a:ln w="0">
            <a:noFill/>
          </a:ln>
        </p:spPr>
      </p:pic>
      <p:pic>
        <p:nvPicPr>
          <p:cNvPr id="2612" name="对象 8214" descr=""/>
          <p:cNvPicPr/>
          <p:nvPr/>
        </p:nvPicPr>
        <p:blipFill>
          <a:blip r:embed="rId8"/>
          <a:stretch/>
        </p:blipFill>
        <p:spPr>
          <a:xfrm>
            <a:off x="3564000" y="4594320"/>
            <a:ext cx="1566720" cy="868320"/>
          </a:xfrm>
          <a:prstGeom prst="rect">
            <a:avLst/>
          </a:prstGeom>
          <a:ln w="0">
            <a:noFill/>
          </a:ln>
        </p:spPr>
      </p:pic>
      <p:pic>
        <p:nvPicPr>
          <p:cNvPr id="2613" name="对象 8215" descr=""/>
          <p:cNvPicPr/>
          <p:nvPr/>
        </p:nvPicPr>
        <p:blipFill>
          <a:blip r:embed="rId9"/>
          <a:stretch/>
        </p:blipFill>
        <p:spPr>
          <a:xfrm>
            <a:off x="2268360" y="2217600"/>
            <a:ext cx="335160" cy="868680"/>
          </a:xfrm>
          <a:prstGeom prst="rect">
            <a:avLst/>
          </a:prstGeom>
          <a:ln w="0">
            <a:noFill/>
          </a:ln>
        </p:spPr>
      </p:pic>
      <p:pic>
        <p:nvPicPr>
          <p:cNvPr id="2614" name="对象 8216" descr=""/>
          <p:cNvPicPr/>
          <p:nvPr/>
        </p:nvPicPr>
        <p:blipFill>
          <a:blip r:embed="rId10"/>
          <a:stretch/>
        </p:blipFill>
        <p:spPr>
          <a:xfrm>
            <a:off x="4716360" y="3370320"/>
            <a:ext cx="335160" cy="868320"/>
          </a:xfrm>
          <a:prstGeom prst="rect">
            <a:avLst/>
          </a:prstGeom>
          <a:ln w="0">
            <a:noFill/>
          </a:ln>
        </p:spPr>
      </p:pic>
      <p:pic>
        <p:nvPicPr>
          <p:cNvPr id="2615" name="对象 8217" descr=""/>
          <p:cNvPicPr/>
          <p:nvPr/>
        </p:nvPicPr>
        <p:blipFill>
          <a:blip r:embed="rId11"/>
          <a:stretch/>
        </p:blipFill>
        <p:spPr>
          <a:xfrm>
            <a:off x="4645080" y="2217600"/>
            <a:ext cx="334800" cy="868680"/>
          </a:xfrm>
          <a:prstGeom prst="rect">
            <a:avLst/>
          </a:prstGeom>
          <a:ln w="0">
            <a:noFill/>
          </a:ln>
        </p:spPr>
      </p:pic>
      <p:pic>
        <p:nvPicPr>
          <p:cNvPr id="2616" name="对象 8218" descr=""/>
          <p:cNvPicPr/>
          <p:nvPr/>
        </p:nvPicPr>
        <p:blipFill>
          <a:blip r:embed="rId12"/>
          <a:stretch/>
        </p:blipFill>
        <p:spPr>
          <a:xfrm>
            <a:off x="7093080" y="3370320"/>
            <a:ext cx="476280" cy="868320"/>
          </a:xfrm>
          <a:prstGeom prst="rect">
            <a:avLst/>
          </a:prstGeom>
          <a:ln w="0">
            <a:noFill/>
          </a:ln>
        </p:spPr>
      </p:pic>
      <p:pic>
        <p:nvPicPr>
          <p:cNvPr id="2617" name="对象 8219" descr=""/>
          <p:cNvPicPr/>
          <p:nvPr/>
        </p:nvPicPr>
        <p:blipFill>
          <a:blip r:embed="rId13"/>
          <a:stretch/>
        </p:blipFill>
        <p:spPr>
          <a:xfrm>
            <a:off x="6948360" y="2217600"/>
            <a:ext cx="336600" cy="868680"/>
          </a:xfrm>
          <a:prstGeom prst="rect">
            <a:avLst/>
          </a:prstGeom>
          <a:ln w="0">
            <a:noFill/>
          </a:ln>
        </p:spPr>
      </p:pic>
      <p:pic>
        <p:nvPicPr>
          <p:cNvPr id="2618" name="对象 8220" descr=""/>
          <p:cNvPicPr/>
          <p:nvPr/>
        </p:nvPicPr>
        <p:blipFill>
          <a:blip r:embed="rId14"/>
          <a:stretch/>
        </p:blipFill>
        <p:spPr>
          <a:xfrm>
            <a:off x="2700360" y="4594320"/>
            <a:ext cx="447480" cy="868320"/>
          </a:xfrm>
          <a:prstGeom prst="rect">
            <a:avLst/>
          </a:prstGeom>
          <a:ln w="0">
            <a:noFill/>
          </a:ln>
        </p:spPr>
      </p:pic>
      <p:pic>
        <p:nvPicPr>
          <p:cNvPr id="2619" name="对象 8221" descr=""/>
          <p:cNvPicPr/>
          <p:nvPr/>
        </p:nvPicPr>
        <p:blipFill>
          <a:blip r:embed="rId15"/>
          <a:stretch/>
        </p:blipFill>
        <p:spPr>
          <a:xfrm>
            <a:off x="2556000" y="3586320"/>
            <a:ext cx="531720" cy="390240"/>
          </a:xfrm>
          <a:prstGeom prst="rect">
            <a:avLst/>
          </a:prstGeom>
          <a:ln w="0">
            <a:noFill/>
          </a:ln>
        </p:spPr>
      </p:pic>
      <p:pic>
        <p:nvPicPr>
          <p:cNvPr id="2620" name="对象 8222" descr=""/>
          <p:cNvPicPr/>
          <p:nvPr/>
        </p:nvPicPr>
        <p:blipFill>
          <a:blip r:embed="rId16"/>
          <a:stretch/>
        </p:blipFill>
        <p:spPr>
          <a:xfrm>
            <a:off x="5148360" y="4594320"/>
            <a:ext cx="309600" cy="869760"/>
          </a:xfrm>
          <a:prstGeom prst="rect">
            <a:avLst/>
          </a:prstGeom>
          <a:ln w="0">
            <a:noFill/>
          </a:ln>
        </p:spPr>
      </p:pic>
      <p:grpSp>
        <p:nvGrpSpPr>
          <p:cNvPr id="262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2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23" name="五边形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2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4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4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4" name="Rectangle 2"/>
          <p:cNvSpPr/>
          <p:nvPr/>
        </p:nvSpPr>
        <p:spPr>
          <a:xfrm>
            <a:off x="108000" y="1353960"/>
            <a:ext cx="4897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分数除法的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7"/>
          <p:cNvSpPr/>
          <p:nvPr/>
        </p:nvSpPr>
        <p:spPr>
          <a:xfrm>
            <a:off x="1979640" y="2060640"/>
            <a:ext cx="5999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积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互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6" name="Picture 8" descr="11"/>
          <p:cNvPicPr/>
          <p:nvPr/>
        </p:nvPicPr>
        <p:blipFill>
          <a:blip r:embed="rId2"/>
          <a:stretch/>
        </p:blipFill>
        <p:spPr>
          <a:xfrm>
            <a:off x="322200" y="3235320"/>
            <a:ext cx="8062920" cy="1871640"/>
          </a:xfrm>
          <a:prstGeom prst="rect">
            <a:avLst/>
          </a:prstGeom>
          <a:ln w="0">
            <a:noFill/>
          </a:ln>
        </p:spPr>
      </p:pic>
      <p:sp>
        <p:nvSpPr>
          <p:cNvPr id="2647" name="Text Box 9"/>
          <p:cNvSpPr/>
          <p:nvPr/>
        </p:nvSpPr>
        <p:spPr>
          <a:xfrm>
            <a:off x="611280" y="270828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找出下面各数的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8" name="对象 9239" descr=""/>
          <p:cNvPicPr/>
          <p:nvPr/>
        </p:nvPicPr>
        <p:blipFill>
          <a:blip r:embed="rId3">
            <a:alphaModFix amt="48000"/>
          </a:blip>
          <a:stretch/>
        </p:blipFill>
        <p:spPr>
          <a:xfrm>
            <a:off x="2001960" y="33782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49" name="对象 9240" descr=""/>
          <p:cNvPicPr/>
          <p:nvPr/>
        </p:nvPicPr>
        <p:blipFill>
          <a:blip r:embed="rId4">
            <a:alphaModFix amt="48000"/>
          </a:blip>
          <a:stretch/>
        </p:blipFill>
        <p:spPr>
          <a:xfrm>
            <a:off x="4962600" y="33782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0" name="对象 9241" descr=""/>
          <p:cNvPicPr/>
          <p:nvPr/>
        </p:nvPicPr>
        <p:blipFill>
          <a:blip r:embed="rId5">
            <a:alphaModFix amt="48000"/>
          </a:blip>
          <a:stretch/>
        </p:blipFill>
        <p:spPr>
          <a:xfrm>
            <a:off x="7788240" y="3378240"/>
            <a:ext cx="265320" cy="745920"/>
          </a:xfrm>
          <a:prstGeom prst="rect">
            <a:avLst/>
          </a:prstGeom>
          <a:ln w="0">
            <a:noFill/>
          </a:ln>
        </p:spPr>
      </p:pic>
      <p:pic>
        <p:nvPicPr>
          <p:cNvPr id="2651" name="对象 9242" descr=""/>
          <p:cNvPicPr/>
          <p:nvPr/>
        </p:nvPicPr>
        <p:blipFill>
          <a:blip r:embed="rId6">
            <a:alphaModFix amt="48000"/>
          </a:blip>
          <a:stretch/>
        </p:blipFill>
        <p:spPr>
          <a:xfrm>
            <a:off x="2048040" y="4459320"/>
            <a:ext cx="168120" cy="312840"/>
          </a:xfrm>
          <a:prstGeom prst="rect">
            <a:avLst/>
          </a:prstGeom>
          <a:ln w="0">
            <a:noFill/>
          </a:ln>
        </p:spPr>
      </p:pic>
      <p:pic>
        <p:nvPicPr>
          <p:cNvPr id="2652" name="对象 9243" descr=""/>
          <p:cNvPicPr/>
          <p:nvPr/>
        </p:nvPicPr>
        <p:blipFill>
          <a:blip r:embed="rId7">
            <a:alphaModFix amt="48000"/>
          </a:blip>
          <a:stretch/>
        </p:blipFill>
        <p:spPr>
          <a:xfrm>
            <a:off x="4929120" y="4243320"/>
            <a:ext cx="271440" cy="744480"/>
          </a:xfrm>
          <a:prstGeom prst="rect">
            <a:avLst/>
          </a:prstGeom>
          <a:ln w="0">
            <a:noFill/>
          </a:ln>
        </p:spPr>
      </p:pic>
      <p:pic>
        <p:nvPicPr>
          <p:cNvPr id="2653" name="对象 9244" descr=""/>
          <p:cNvPicPr/>
          <p:nvPr/>
        </p:nvPicPr>
        <p:blipFill>
          <a:blip r:embed="rId8">
            <a:alphaModFix amt="48000"/>
          </a:blip>
          <a:stretch/>
        </p:blipFill>
        <p:spPr>
          <a:xfrm>
            <a:off x="7953480" y="4459320"/>
            <a:ext cx="241200" cy="312840"/>
          </a:xfrm>
          <a:prstGeom prst="rect">
            <a:avLst/>
          </a:prstGeom>
          <a:ln w="0">
            <a:noFill/>
          </a:ln>
        </p:spPr>
      </p:pic>
      <p:pic>
        <p:nvPicPr>
          <p:cNvPr id="2654" name="Picture 16" descr="2"/>
          <p:cNvPicPr/>
          <p:nvPr/>
        </p:nvPicPr>
        <p:blipFill>
          <a:blip r:embed="rId9"/>
          <a:stretch/>
        </p:blipFill>
        <p:spPr>
          <a:xfrm>
            <a:off x="609480" y="4960800"/>
            <a:ext cx="7745400" cy="863640"/>
          </a:xfrm>
          <a:prstGeom prst="rect">
            <a:avLst/>
          </a:prstGeom>
          <a:ln w="0">
            <a:noFill/>
          </a:ln>
        </p:spPr>
      </p:pic>
      <p:pic>
        <p:nvPicPr>
          <p:cNvPr id="2655" name="对象 9246" descr=""/>
          <p:cNvPicPr/>
          <p:nvPr/>
        </p:nvPicPr>
        <p:blipFill>
          <a:blip r:embed="rId10">
            <a:alphaModFix amt="48000"/>
          </a:blip>
          <a:stretch/>
        </p:blipFill>
        <p:spPr>
          <a:xfrm>
            <a:off x="2336760" y="5248440"/>
            <a:ext cx="241200" cy="312480"/>
          </a:xfrm>
          <a:prstGeom prst="rect">
            <a:avLst/>
          </a:prstGeom>
          <a:ln w="0">
            <a:noFill/>
          </a:ln>
        </p:spPr>
      </p:pic>
      <p:pic>
        <p:nvPicPr>
          <p:cNvPr id="2656" name="对象 9247" descr=""/>
          <p:cNvPicPr/>
          <p:nvPr/>
        </p:nvPicPr>
        <p:blipFill>
          <a:blip r:embed="rId11">
            <a:alphaModFix amt="48000"/>
          </a:blip>
          <a:stretch/>
        </p:blipFill>
        <p:spPr>
          <a:xfrm>
            <a:off x="3954600" y="50324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7" name="对象 9248" descr=""/>
          <p:cNvPicPr/>
          <p:nvPr/>
        </p:nvPicPr>
        <p:blipFill>
          <a:blip r:embed="rId12">
            <a:alphaModFix amt="48000"/>
          </a:blip>
          <a:stretch/>
        </p:blipFill>
        <p:spPr>
          <a:xfrm>
            <a:off x="5648400" y="50324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8" name="对象 9249" descr=""/>
          <p:cNvPicPr/>
          <p:nvPr/>
        </p:nvPicPr>
        <p:blipFill>
          <a:blip r:embed="rId13">
            <a:alphaModFix amt="48000"/>
          </a:blip>
          <a:stretch/>
        </p:blipFill>
        <p:spPr>
          <a:xfrm>
            <a:off x="7377120" y="5176800"/>
            <a:ext cx="241200" cy="3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2" name="Rectangle 2"/>
          <p:cNvSpPr/>
          <p:nvPr/>
        </p:nvSpPr>
        <p:spPr>
          <a:xfrm>
            <a:off x="250920" y="1268280"/>
            <a:ext cx="2378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Text Box 6"/>
          <p:cNvSpPr/>
          <p:nvPr/>
        </p:nvSpPr>
        <p:spPr>
          <a:xfrm>
            <a:off x="2050920" y="1628640"/>
            <a:ext cx="59770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除以一个数等于乘这个数的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 Box 3"/>
          <p:cNvSpPr/>
          <p:nvPr/>
        </p:nvSpPr>
        <p:spPr>
          <a:xfrm>
            <a:off x="755640" y="2276640"/>
            <a:ext cx="46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除以整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5" name="对象 10257" descr=""/>
          <p:cNvPicPr/>
          <p:nvPr/>
        </p:nvPicPr>
        <p:blipFill>
          <a:blip r:embed="rId1"/>
          <a:stretch/>
        </p:blipFill>
        <p:spPr>
          <a:xfrm>
            <a:off x="3780000" y="3005280"/>
            <a:ext cx="1184040" cy="1079280"/>
          </a:xfrm>
          <a:prstGeom prst="rect">
            <a:avLst/>
          </a:prstGeom>
          <a:ln w="0">
            <a:noFill/>
          </a:ln>
        </p:spPr>
      </p:pic>
      <p:sp>
        <p:nvSpPr>
          <p:cNvPr id="2676" name="Line 7"/>
          <p:cNvSpPr/>
          <p:nvPr/>
        </p:nvSpPr>
        <p:spPr>
          <a:xfrm>
            <a:off x="3852720" y="3139920"/>
            <a:ext cx="35892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8"/>
          <p:cNvSpPr/>
          <p:nvPr/>
        </p:nvSpPr>
        <p:spPr>
          <a:xfrm>
            <a:off x="4572000" y="371628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9"/>
          <p:cNvSpPr/>
          <p:nvPr/>
        </p:nvSpPr>
        <p:spPr>
          <a:xfrm>
            <a:off x="4002120" y="27813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10"/>
          <p:cNvSpPr/>
          <p:nvPr/>
        </p:nvSpPr>
        <p:spPr>
          <a:xfrm>
            <a:off x="4643280" y="39322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0" name="对象 10262" descr=""/>
          <p:cNvPicPr/>
          <p:nvPr/>
        </p:nvPicPr>
        <p:blipFill>
          <a:blip r:embed="rId2"/>
          <a:stretch/>
        </p:blipFill>
        <p:spPr>
          <a:xfrm>
            <a:off x="5005440" y="2997360"/>
            <a:ext cx="1209600" cy="1008000"/>
          </a:xfrm>
          <a:prstGeom prst="rect">
            <a:avLst/>
          </a:prstGeom>
          <a:ln w="0">
            <a:noFill/>
          </a:ln>
        </p:spPr>
      </p:pic>
      <p:pic>
        <p:nvPicPr>
          <p:cNvPr id="2681" name="对象 10263" descr=""/>
          <p:cNvPicPr/>
          <p:nvPr/>
        </p:nvPicPr>
        <p:blipFill>
          <a:blip r:embed="rId3"/>
          <a:stretch/>
        </p:blipFill>
        <p:spPr>
          <a:xfrm>
            <a:off x="2413080" y="2997360"/>
            <a:ext cx="1439640" cy="1062000"/>
          </a:xfrm>
          <a:prstGeom prst="rect">
            <a:avLst/>
          </a:prstGeom>
          <a:ln w="0">
            <a:noFill/>
          </a:ln>
        </p:spPr>
      </p:pic>
      <p:sp>
        <p:nvSpPr>
          <p:cNvPr id="2682" name="Text Box 3"/>
          <p:cNvSpPr/>
          <p:nvPr/>
        </p:nvSpPr>
        <p:spPr>
          <a:xfrm>
            <a:off x="684360" y="43657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一个数除以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3" name="对象 10265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1297080" cy="957240"/>
          </a:xfrm>
          <a:prstGeom prst="rect">
            <a:avLst/>
          </a:prstGeom>
          <a:ln w="0">
            <a:noFill/>
          </a:ln>
        </p:spPr>
      </p:pic>
      <p:pic>
        <p:nvPicPr>
          <p:cNvPr id="2684" name="对象 10266" descr=""/>
          <p:cNvPicPr/>
          <p:nvPr/>
        </p:nvPicPr>
        <p:blipFill>
          <a:blip r:embed="rId5"/>
          <a:stretch/>
        </p:blipFill>
        <p:spPr>
          <a:xfrm>
            <a:off x="2629080" y="5013360"/>
            <a:ext cx="1266480" cy="957240"/>
          </a:xfrm>
          <a:prstGeom prst="rect">
            <a:avLst/>
          </a:prstGeom>
          <a:ln w="0">
            <a:noFill/>
          </a:ln>
        </p:spPr>
      </p:pic>
      <p:sp>
        <p:nvSpPr>
          <p:cNvPr id="2685" name="Line 9"/>
          <p:cNvSpPr/>
          <p:nvPr/>
        </p:nvSpPr>
        <p:spPr>
          <a:xfrm>
            <a:off x="2627280" y="530064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Text Box 10"/>
          <p:cNvSpPr/>
          <p:nvPr/>
        </p:nvSpPr>
        <p:spPr>
          <a:xfrm>
            <a:off x="2698920" y="501336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11"/>
          <p:cNvSpPr/>
          <p:nvPr/>
        </p:nvSpPr>
        <p:spPr>
          <a:xfrm>
            <a:off x="3203640" y="566100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12"/>
          <p:cNvSpPr/>
          <p:nvPr/>
        </p:nvSpPr>
        <p:spPr>
          <a:xfrm>
            <a:off x="3276720" y="5805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9" name="对象 10271" descr=""/>
          <p:cNvPicPr/>
          <p:nvPr/>
        </p:nvPicPr>
        <p:blipFill>
          <a:blip r:embed="rId6"/>
          <a:stretch/>
        </p:blipFill>
        <p:spPr>
          <a:xfrm>
            <a:off x="3924360" y="5300640"/>
            <a:ext cx="493560" cy="432000"/>
          </a:xfrm>
          <a:prstGeom prst="rect">
            <a:avLst/>
          </a:prstGeom>
          <a:ln w="0">
            <a:noFill/>
          </a:ln>
        </p:spPr>
      </p:pic>
      <p:pic>
        <p:nvPicPr>
          <p:cNvPr id="2690" name="对象 10272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225800" cy="865440"/>
          </a:xfrm>
          <a:prstGeom prst="rect">
            <a:avLst/>
          </a:prstGeom>
          <a:ln w="0">
            <a:noFill/>
          </a:ln>
        </p:spPr>
      </p:pic>
      <p:pic>
        <p:nvPicPr>
          <p:cNvPr id="2691" name="对象 10273" descr=""/>
          <p:cNvPicPr/>
          <p:nvPr/>
        </p:nvPicPr>
        <p:blipFill>
          <a:blip r:embed="rId8"/>
          <a:stretch/>
        </p:blipFill>
        <p:spPr>
          <a:xfrm>
            <a:off x="6299280" y="5084640"/>
            <a:ext cx="1197000" cy="865440"/>
          </a:xfrm>
          <a:prstGeom prst="rect">
            <a:avLst/>
          </a:prstGeom>
          <a:ln w="0">
            <a:noFill/>
          </a:ln>
        </p:spPr>
      </p:pic>
      <p:sp>
        <p:nvSpPr>
          <p:cNvPr id="2692" name="Line 16"/>
          <p:cNvSpPr/>
          <p:nvPr/>
        </p:nvSpPr>
        <p:spPr>
          <a:xfrm>
            <a:off x="6299280" y="515772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17"/>
          <p:cNvSpPr/>
          <p:nvPr/>
        </p:nvSpPr>
        <p:spPr>
          <a:xfrm>
            <a:off x="6442200" y="472752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18"/>
          <p:cNvSpPr/>
          <p:nvPr/>
        </p:nvSpPr>
        <p:spPr>
          <a:xfrm>
            <a:off x="6802560" y="558972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19"/>
          <p:cNvSpPr/>
          <p:nvPr/>
        </p:nvSpPr>
        <p:spPr>
          <a:xfrm>
            <a:off x="7018200" y="58053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6" name="对象 10278" descr=""/>
          <p:cNvPicPr/>
          <p:nvPr/>
        </p:nvPicPr>
        <p:blipFill>
          <a:blip r:embed="rId9"/>
          <a:stretch/>
        </p:blipFill>
        <p:spPr>
          <a:xfrm>
            <a:off x="7523280" y="5013360"/>
            <a:ext cx="493560" cy="960480"/>
          </a:xfrm>
          <a:prstGeom prst="rect">
            <a:avLst/>
          </a:prstGeom>
          <a:ln w="0">
            <a:noFill/>
          </a:ln>
        </p:spPr>
      </p:pic>
      <p:sp>
        <p:nvSpPr>
          <p:cNvPr id="2697" name="五边形 4"/>
          <p:cNvSpPr/>
          <p:nvPr/>
        </p:nvSpPr>
        <p:spPr>
          <a:xfrm>
            <a:off x="6500880" y="353880"/>
            <a:ext cx="188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探究新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9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00" name="五边形 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0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1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1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1" name="Text Box 3"/>
          <p:cNvSpPr/>
          <p:nvPr/>
        </p:nvSpPr>
        <p:spPr>
          <a:xfrm>
            <a:off x="611280" y="112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2" name="对象 11284" descr=""/>
          <p:cNvPicPr/>
          <p:nvPr/>
        </p:nvPicPr>
        <p:blipFill>
          <a:blip r:embed="rId2"/>
          <a:stretch/>
        </p:blipFill>
        <p:spPr>
          <a:xfrm>
            <a:off x="1258920" y="2135160"/>
            <a:ext cx="1224000" cy="903240"/>
          </a:xfrm>
          <a:prstGeom prst="rect">
            <a:avLst/>
          </a:prstGeom>
          <a:ln w="0">
            <a:noFill/>
          </a:ln>
        </p:spPr>
      </p:pic>
      <p:pic>
        <p:nvPicPr>
          <p:cNvPr id="2723" name="对象 11285" descr=""/>
          <p:cNvPicPr/>
          <p:nvPr/>
        </p:nvPicPr>
        <p:blipFill>
          <a:blip r:embed="rId3"/>
          <a:stretch/>
        </p:blipFill>
        <p:spPr>
          <a:xfrm>
            <a:off x="3538440" y="2130480"/>
            <a:ext cx="1136880" cy="903240"/>
          </a:xfrm>
          <a:prstGeom prst="rect">
            <a:avLst/>
          </a:prstGeom>
          <a:ln w="0">
            <a:noFill/>
          </a:ln>
        </p:spPr>
      </p:pic>
      <p:pic>
        <p:nvPicPr>
          <p:cNvPr id="2724" name="对象 11286" descr=""/>
          <p:cNvPicPr/>
          <p:nvPr/>
        </p:nvPicPr>
        <p:blipFill>
          <a:blip r:embed="rId4"/>
          <a:stretch/>
        </p:blipFill>
        <p:spPr>
          <a:xfrm>
            <a:off x="5867280" y="2135160"/>
            <a:ext cx="1136880" cy="903240"/>
          </a:xfrm>
          <a:prstGeom prst="rect">
            <a:avLst/>
          </a:prstGeom>
          <a:ln w="0">
            <a:noFill/>
          </a:ln>
        </p:spPr>
      </p:pic>
      <p:pic>
        <p:nvPicPr>
          <p:cNvPr id="2725" name="对象 11287" descr=""/>
          <p:cNvPicPr/>
          <p:nvPr/>
        </p:nvPicPr>
        <p:blipFill>
          <a:blip r:embed="rId5"/>
          <a:stretch/>
        </p:blipFill>
        <p:spPr>
          <a:xfrm>
            <a:off x="1258920" y="3465360"/>
            <a:ext cx="1108080" cy="903600"/>
          </a:xfrm>
          <a:prstGeom prst="rect">
            <a:avLst/>
          </a:prstGeom>
          <a:ln w="0">
            <a:noFill/>
          </a:ln>
        </p:spPr>
      </p:pic>
      <p:pic>
        <p:nvPicPr>
          <p:cNvPr id="2726" name="对象 11288" descr=""/>
          <p:cNvPicPr/>
          <p:nvPr/>
        </p:nvPicPr>
        <p:blipFill>
          <a:blip r:embed="rId6"/>
          <a:stretch/>
        </p:blipFill>
        <p:spPr>
          <a:xfrm>
            <a:off x="3541680" y="3476520"/>
            <a:ext cx="1136520" cy="903240"/>
          </a:xfrm>
          <a:prstGeom prst="rect">
            <a:avLst/>
          </a:prstGeom>
          <a:ln w="0">
            <a:noFill/>
          </a:ln>
        </p:spPr>
      </p:pic>
      <p:pic>
        <p:nvPicPr>
          <p:cNvPr id="2727" name="对象 11289" descr=""/>
          <p:cNvPicPr/>
          <p:nvPr/>
        </p:nvPicPr>
        <p:blipFill>
          <a:blip r:embed="rId7"/>
          <a:stretch/>
        </p:blipFill>
        <p:spPr>
          <a:xfrm>
            <a:off x="5867280" y="3468600"/>
            <a:ext cx="1428840" cy="903240"/>
          </a:xfrm>
          <a:prstGeom prst="rect">
            <a:avLst/>
          </a:prstGeom>
          <a:ln w="0">
            <a:noFill/>
          </a:ln>
        </p:spPr>
      </p:pic>
      <p:pic>
        <p:nvPicPr>
          <p:cNvPr id="2728" name="对象 11290" descr=""/>
          <p:cNvPicPr/>
          <p:nvPr/>
        </p:nvPicPr>
        <p:blipFill>
          <a:blip r:embed="rId8"/>
          <a:stretch/>
        </p:blipFill>
        <p:spPr>
          <a:xfrm>
            <a:off x="1225440" y="4916520"/>
            <a:ext cx="1252800" cy="904680"/>
          </a:xfrm>
          <a:prstGeom prst="rect">
            <a:avLst/>
          </a:prstGeom>
          <a:ln w="0">
            <a:noFill/>
          </a:ln>
        </p:spPr>
      </p:pic>
      <p:pic>
        <p:nvPicPr>
          <p:cNvPr id="2729" name="对象 11291" descr=""/>
          <p:cNvPicPr/>
          <p:nvPr/>
        </p:nvPicPr>
        <p:blipFill>
          <a:blip r:embed="rId9"/>
          <a:stretch/>
        </p:blipFill>
        <p:spPr>
          <a:xfrm>
            <a:off x="3562200" y="4910040"/>
            <a:ext cx="1282680" cy="903240"/>
          </a:xfrm>
          <a:prstGeom prst="rect">
            <a:avLst/>
          </a:prstGeom>
          <a:ln w="0">
            <a:noFill/>
          </a:ln>
        </p:spPr>
      </p:pic>
      <p:pic>
        <p:nvPicPr>
          <p:cNvPr id="2730" name="对象 11292" descr=""/>
          <p:cNvPicPr/>
          <p:nvPr/>
        </p:nvPicPr>
        <p:blipFill>
          <a:blip r:embed="rId10">
            <a:alphaModFix amt="60000"/>
          </a:blip>
          <a:stretch/>
        </p:blipFill>
        <p:spPr>
          <a:xfrm>
            <a:off x="2411280" y="2421000"/>
            <a:ext cx="406440" cy="407880"/>
          </a:xfrm>
          <a:prstGeom prst="rect">
            <a:avLst/>
          </a:prstGeom>
          <a:ln w="0">
            <a:noFill/>
          </a:ln>
        </p:spPr>
      </p:pic>
      <p:pic>
        <p:nvPicPr>
          <p:cNvPr id="2731" name="对象 11293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4643280" y="213372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732" name="对象 11294" descr=""/>
          <p:cNvPicPr/>
          <p:nvPr/>
        </p:nvPicPr>
        <p:blipFill>
          <a:blip r:embed="rId12">
            <a:alphaModFix amt="85000"/>
          </a:blip>
          <a:stretch/>
        </p:blipFill>
        <p:spPr>
          <a:xfrm>
            <a:off x="2484360" y="5157720"/>
            <a:ext cx="466920" cy="407880"/>
          </a:xfrm>
          <a:prstGeom prst="rect">
            <a:avLst/>
          </a:prstGeom>
          <a:ln w="0">
            <a:noFill/>
          </a:ln>
        </p:spPr>
      </p:pic>
      <p:pic>
        <p:nvPicPr>
          <p:cNvPr id="2733" name="对象 11295" descr=""/>
          <p:cNvPicPr/>
          <p:nvPr/>
        </p:nvPicPr>
        <p:blipFill>
          <a:blip r:embed="rId13">
            <a:alphaModFix amt="85000"/>
          </a:blip>
          <a:stretch/>
        </p:blipFill>
        <p:spPr>
          <a:xfrm>
            <a:off x="7020000" y="2349360"/>
            <a:ext cx="263520" cy="408240"/>
          </a:xfrm>
          <a:prstGeom prst="rect">
            <a:avLst/>
          </a:prstGeom>
          <a:ln w="0">
            <a:noFill/>
          </a:ln>
        </p:spPr>
      </p:pic>
      <p:pic>
        <p:nvPicPr>
          <p:cNvPr id="2734" name="对象 11296" descr=""/>
          <p:cNvPicPr/>
          <p:nvPr/>
        </p:nvPicPr>
        <p:blipFill>
          <a:blip r:embed="rId14"/>
          <a:stretch/>
        </p:blipFill>
        <p:spPr>
          <a:xfrm>
            <a:off x="2411280" y="3502080"/>
            <a:ext cx="351000" cy="904680"/>
          </a:xfrm>
          <a:prstGeom prst="rect">
            <a:avLst/>
          </a:prstGeom>
          <a:ln w="0">
            <a:noFill/>
          </a:ln>
        </p:spPr>
      </p:pic>
      <p:pic>
        <p:nvPicPr>
          <p:cNvPr id="2735" name="对象 11297" descr=""/>
          <p:cNvPicPr/>
          <p:nvPr/>
        </p:nvPicPr>
        <p:blipFill>
          <a:blip r:embed="rId15">
            <a:alphaModFix amt="60000"/>
          </a:blip>
          <a:stretch/>
        </p:blipFill>
        <p:spPr>
          <a:xfrm>
            <a:off x="4643280" y="350208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736" name="对象 11298" descr=""/>
          <p:cNvPicPr/>
          <p:nvPr/>
        </p:nvPicPr>
        <p:blipFill>
          <a:blip r:embed="rId16">
            <a:alphaModFix amt="80000"/>
          </a:blip>
          <a:stretch/>
        </p:blipFill>
        <p:spPr>
          <a:xfrm>
            <a:off x="7236000" y="3502080"/>
            <a:ext cx="350640" cy="904680"/>
          </a:xfrm>
          <a:prstGeom prst="rect">
            <a:avLst/>
          </a:prstGeom>
          <a:ln w="0">
            <a:noFill/>
          </a:ln>
        </p:spPr>
      </p:pic>
      <p:pic>
        <p:nvPicPr>
          <p:cNvPr id="2737" name="对象 11299" descr=""/>
          <p:cNvPicPr/>
          <p:nvPr/>
        </p:nvPicPr>
        <p:blipFill>
          <a:blip r:embed="rId17"/>
          <a:stretch/>
        </p:blipFill>
        <p:spPr>
          <a:xfrm>
            <a:off x="4859280" y="4941720"/>
            <a:ext cx="351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3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5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5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6" name="Text Box 3"/>
          <p:cNvSpPr/>
          <p:nvPr/>
        </p:nvSpPr>
        <p:spPr>
          <a:xfrm>
            <a:off x="539640" y="206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下面各题怎样简便就怎样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2"/>
          <p:cNvSpPr/>
          <p:nvPr/>
        </p:nvSpPr>
        <p:spPr>
          <a:xfrm>
            <a:off x="684360" y="141300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分数四则运算和简便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8" name="对象 12309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2708280" cy="2087640"/>
          </a:xfrm>
          <a:prstGeom prst="rect">
            <a:avLst/>
          </a:prstGeom>
          <a:ln w="0">
            <a:noFill/>
          </a:ln>
        </p:spPr>
      </p:pic>
      <p:pic>
        <p:nvPicPr>
          <p:cNvPr id="2759" name="对象 12310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2849760" cy="1099800"/>
          </a:xfrm>
          <a:prstGeom prst="rect">
            <a:avLst/>
          </a:prstGeom>
          <a:ln w="0">
            <a:noFill/>
          </a:ln>
        </p:spPr>
      </p:pic>
      <p:pic>
        <p:nvPicPr>
          <p:cNvPr id="2760" name="对象 12311" descr=""/>
          <p:cNvPicPr/>
          <p:nvPr/>
        </p:nvPicPr>
        <p:blipFill>
          <a:blip r:embed="rId4"/>
          <a:stretch/>
        </p:blipFill>
        <p:spPr>
          <a:xfrm>
            <a:off x="4427640" y="3733920"/>
            <a:ext cx="3132000" cy="2114280"/>
          </a:xfrm>
          <a:prstGeom prst="rect">
            <a:avLst/>
          </a:prstGeom>
          <a:ln w="0">
            <a:noFill/>
          </a:ln>
        </p:spPr>
      </p:pic>
      <p:pic>
        <p:nvPicPr>
          <p:cNvPr id="2761" name="对象 12312" descr=""/>
          <p:cNvPicPr/>
          <p:nvPr/>
        </p:nvPicPr>
        <p:blipFill>
          <a:blip r:embed="rId5"/>
          <a:stretch/>
        </p:blipFill>
        <p:spPr>
          <a:xfrm>
            <a:off x="1066680" y="2608200"/>
            <a:ext cx="23702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1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6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22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